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7279A-F232-466B-86F6-E8A9088640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7DAE2-F13D-4EB2-8D2A-8FB609ED96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3FE56-22CC-47A9-BC4F-A64DB6212C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712-0153-4B40-8FB6-4F0792A4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ACD-EA36-4647-A4DF-9BF502DA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019-B573-434F-8457-E05DAF1F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447-19D7-4160-AF3A-3D701417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5B2-8540-4CE0-8159-2ACE3B4A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331-C5EA-4015-90F7-90B6187C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8A1-3437-430E-918D-C46A3388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499-AA34-410C-AD03-81820C52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6AF-FE40-4DD4-8F1E-6CBA8C1E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5C3-B3AC-432B-8F27-012476F5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BCD-F354-4AFC-B716-F9C0051D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596-3FE4-47A9-8CC4-D014431A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555E9-0615-4FC3-88CA-E9B29B59BA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351240" y="4019040"/>
            <a:ext cx="4735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同学们都学习过</a:t>
            </a:r>
            <a:r>
              <a:rPr b="1" lang="en-US" sz="2200" spc="-1" strike="noStrike">
                <a:solidFill>
                  <a:srgbClr val="80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泊船瓜洲</a:t>
            </a:r>
            <a:r>
              <a:rPr b="1" lang="en-US" sz="2200" spc="-1" strike="noStrike">
                <a:solidFill>
                  <a:srgbClr val="80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这首诗吧？作者王安石在写这首诗时可费了不少心思，进行了多次修改。本文主要写了什么内容？让我们一起去了解一下吧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2"/>
          <p:cNvSpPr/>
          <p:nvPr/>
        </p:nvSpPr>
        <p:spPr>
          <a:xfrm>
            <a:off x="1341360" y="1611360"/>
            <a:ext cx="7282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吴中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士人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家藏其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草，初云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“又到江南岸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3"/>
          <p:cNvSpPr/>
          <p:nvPr/>
        </p:nvSpPr>
        <p:spPr>
          <a:xfrm>
            <a:off x="1419120" y="2367000"/>
            <a:ext cx="1970280" cy="5493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士人：读书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3389400" y="2367000"/>
            <a:ext cx="1458720" cy="55080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草：草稿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851040" y="3575160"/>
            <a:ext cx="7772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吴中有个读书的人家中收藏着原诗的草稿，起初写为“又到江南岸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5"/>
          <p:cNvSpPr/>
          <p:nvPr/>
        </p:nvSpPr>
        <p:spPr>
          <a:xfrm>
            <a:off x="4886280" y="2397240"/>
            <a:ext cx="1498680" cy="5000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初：开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5"/>
          <p:cNvSpPr/>
          <p:nvPr/>
        </p:nvSpPr>
        <p:spPr>
          <a:xfrm>
            <a:off x="4879800" y="3006720"/>
            <a:ext cx="1025640" cy="5014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云：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2"/>
          <p:cNvSpPr/>
          <p:nvPr/>
        </p:nvSpPr>
        <p:spPr>
          <a:xfrm>
            <a:off x="557280" y="1306440"/>
            <a:ext cx="8056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圈去“到”字，注曰“不好”，改为“过”字；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复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圈去而改为“入”；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旋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改为“满”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5"/>
          <p:cNvSpPr/>
          <p:nvPr/>
        </p:nvSpPr>
        <p:spPr>
          <a:xfrm>
            <a:off x="7380360" y="1932120"/>
            <a:ext cx="1233360" cy="5014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复：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5"/>
          <p:cNvSpPr/>
          <p:nvPr/>
        </p:nvSpPr>
        <p:spPr>
          <a:xfrm>
            <a:off x="3411360" y="2600280"/>
            <a:ext cx="1235160" cy="5018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旋：又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77880" y="3527280"/>
            <a:ext cx="7935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画圈删掉“到”字，在诗旁批注道：“不好”，改写为“过”；又去掉而改作“入”；随后又改作“满”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2"/>
          <p:cNvSpPr/>
          <p:nvPr/>
        </p:nvSpPr>
        <p:spPr>
          <a:xfrm>
            <a:off x="2000160" y="1573200"/>
            <a:ext cx="5140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凡如是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十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许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字，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始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定为“绿”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5"/>
          <p:cNvSpPr/>
          <p:nvPr/>
        </p:nvSpPr>
        <p:spPr>
          <a:xfrm>
            <a:off x="3754440" y="2270160"/>
            <a:ext cx="1062000" cy="60480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许：表示大约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5"/>
          <p:cNvSpPr/>
          <p:nvPr/>
        </p:nvSpPr>
        <p:spPr>
          <a:xfrm>
            <a:off x="5045040" y="2346480"/>
            <a:ext cx="2022480" cy="4744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始：才，方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5"/>
          <p:cNvSpPr/>
          <p:nvPr/>
        </p:nvSpPr>
        <p:spPr>
          <a:xfrm>
            <a:off x="2535120" y="2238480"/>
            <a:ext cx="1219320" cy="60480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是：像这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5"/>
          <p:cNvSpPr/>
          <p:nvPr/>
        </p:nvSpPr>
        <p:spPr>
          <a:xfrm>
            <a:off x="1182600" y="2217600"/>
            <a:ext cx="1271520" cy="55116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凡：总共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961920" y="3600360"/>
            <a:ext cx="7467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总共照这样修改，前后选用了十多个字，才确定为“绿”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7"/>
          <p:cNvSpPr/>
          <p:nvPr/>
        </p:nvSpPr>
        <p:spPr>
          <a:xfrm>
            <a:off x="1324080" y="2819520"/>
            <a:ext cx="6823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    “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到”“过”“入”“满”，凡如是十许字，始定为“绿”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819000" y="1819440"/>
            <a:ext cx="731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找一找本文中王安石共用改过几个字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5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文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1"/>
          <p:cNvSpPr/>
          <p:nvPr/>
        </p:nvSpPr>
        <p:spPr>
          <a:xfrm>
            <a:off x="1017720" y="29098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主要讲的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泊船瓜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诗草稿中“春风又绿江南岸”一句，王安石改来改去，换了十多个字，最后才确定为“绿”字的故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7167"/>
          <p:cNvSpPr/>
          <p:nvPr/>
        </p:nvSpPr>
        <p:spPr>
          <a:xfrm>
            <a:off x="1020600" y="2300400"/>
            <a:ext cx="805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为下列加点字选择正确的读音，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重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照我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á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旋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uá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荆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ì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41"/>
          <p:cNvSpPr/>
          <p:nvPr/>
        </p:nvSpPr>
        <p:spPr>
          <a:xfrm>
            <a:off x="1569960" y="3152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41"/>
          <p:cNvSpPr/>
          <p:nvPr/>
        </p:nvSpPr>
        <p:spPr>
          <a:xfrm>
            <a:off x="1569960" y="3727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41"/>
          <p:cNvSpPr/>
          <p:nvPr/>
        </p:nvSpPr>
        <p:spPr>
          <a:xfrm>
            <a:off x="5886360" y="3168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2" name="矩形 41"/>
          <p:cNvSpPr/>
          <p:nvPr/>
        </p:nvSpPr>
        <p:spPr>
          <a:xfrm>
            <a:off x="5270400" y="369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26"/>
          <p:cNvSpPr/>
          <p:nvPr/>
        </p:nvSpPr>
        <p:spPr>
          <a:xfrm>
            <a:off x="2647800" y="3389400"/>
            <a:ext cx="57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27"/>
          <p:cNvSpPr/>
          <p:nvPr/>
        </p:nvSpPr>
        <p:spPr>
          <a:xfrm>
            <a:off x="6738840" y="3935520"/>
            <a:ext cx="57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28"/>
          <p:cNvSpPr/>
          <p:nvPr/>
        </p:nvSpPr>
        <p:spPr>
          <a:xfrm>
            <a:off x="2397240" y="3956040"/>
            <a:ext cx="57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29"/>
          <p:cNvSpPr/>
          <p:nvPr/>
        </p:nvSpPr>
        <p:spPr>
          <a:xfrm>
            <a:off x="7122960" y="3390840"/>
            <a:ext cx="57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3"/>
          <p:cNvSpPr/>
          <p:nvPr/>
        </p:nvSpPr>
        <p:spPr>
          <a:xfrm>
            <a:off x="1050840" y="177624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洲（　　　）        间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州（　　　）　　    闻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钟（　　　）        始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仲（　　　）　　    抬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4"/>
          <p:cNvSpPr/>
          <p:nvPr/>
        </p:nvSpPr>
        <p:spPr>
          <a:xfrm>
            <a:off x="5318280" y="4127400"/>
            <a:ext cx="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抬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69"/>
          <p:cNvSpPr/>
          <p:nvPr/>
        </p:nvSpPr>
        <p:spPr>
          <a:xfrm>
            <a:off x="1479600" y="2631960"/>
            <a:ext cx="115920" cy="792360"/>
          </a:xfrm>
          <a:custGeom>
            <a:avLst/>
            <a:gdLst>
              <a:gd name="textAreaLeft" fmla="*/ 74160 w 115920"/>
              <a:gd name="textAreaRight" fmla="*/ 116280 w 115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70"/>
          <p:cNvSpPr/>
          <p:nvPr/>
        </p:nvSpPr>
        <p:spPr>
          <a:xfrm>
            <a:off x="1495440" y="3713040"/>
            <a:ext cx="115920" cy="792360"/>
          </a:xfrm>
          <a:custGeom>
            <a:avLst/>
            <a:gdLst>
              <a:gd name="textAreaLeft" fmla="*/ 74160 w 115920"/>
              <a:gd name="textAreaRight" fmla="*/ 116280 w 115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71"/>
          <p:cNvSpPr/>
          <p:nvPr/>
        </p:nvSpPr>
        <p:spPr>
          <a:xfrm>
            <a:off x="4492800" y="3760920"/>
            <a:ext cx="115560" cy="792000"/>
          </a:xfrm>
          <a:custGeom>
            <a:avLst/>
            <a:gdLst>
              <a:gd name="textAreaLeft" fmla="*/ 73800 w 115560"/>
              <a:gd name="textAreaRight" fmla="*/ 115920 w 1155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72"/>
          <p:cNvSpPr/>
          <p:nvPr/>
        </p:nvSpPr>
        <p:spPr>
          <a:xfrm>
            <a:off x="4476600" y="2635200"/>
            <a:ext cx="115920" cy="792360"/>
          </a:xfrm>
          <a:custGeom>
            <a:avLst/>
            <a:gdLst>
              <a:gd name="textAreaLeft" fmla="*/ 74160 w 115920"/>
              <a:gd name="textAreaRight" fmla="*/ 116280 w 115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75"/>
          <p:cNvSpPr/>
          <p:nvPr/>
        </p:nvSpPr>
        <p:spPr>
          <a:xfrm>
            <a:off x="2381040" y="2470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亚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76"/>
          <p:cNvSpPr/>
          <p:nvPr/>
        </p:nvSpPr>
        <p:spPr>
          <a:xfrm>
            <a:off x="2381040" y="30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神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77"/>
          <p:cNvSpPr/>
          <p:nvPr/>
        </p:nvSpPr>
        <p:spPr>
          <a:xfrm>
            <a:off x="5441760" y="2470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中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78"/>
          <p:cNvSpPr/>
          <p:nvPr/>
        </p:nvSpPr>
        <p:spPr>
          <a:xfrm>
            <a:off x="5441760" y="30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听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79"/>
          <p:cNvSpPr/>
          <p:nvPr/>
        </p:nvSpPr>
        <p:spPr>
          <a:xfrm>
            <a:off x="2381040" y="3586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钟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80"/>
          <p:cNvSpPr/>
          <p:nvPr/>
        </p:nvSpPr>
        <p:spPr>
          <a:xfrm>
            <a:off x="2381040" y="413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仲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81"/>
          <p:cNvSpPr/>
          <p:nvPr/>
        </p:nvSpPr>
        <p:spPr>
          <a:xfrm>
            <a:off x="5441760" y="359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2395440" y="2084400"/>
            <a:ext cx="4462560" cy="354168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165480" y="3159000"/>
            <a:ext cx="3186000" cy="1150920"/>
            <a:chOff x="3165480" y="315900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868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40683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1654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74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荆公改字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2185560" y="98568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9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并会写生字“荆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朗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3859200" y="1631880"/>
            <a:ext cx="4465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洪迈（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1123—1202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国南宋著名文学家、学者。字景卢，别号野处，鄱阳（今属江西）人。绍兴进士，官至端明殿学士。谥文敏。主张与金和议。曾使金，几被拘留。学识渊博，自经史百家以至医卜星算，皆有论述，尤熟于宋代掌故。撰有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《容斋随笔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，编有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万首唐人绝句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240" y="1226880"/>
              <a:ext cx="17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10" descr="C:\Documents and Settings\Administrator\Application Data\Tencent\Users\2636117161\QQ\WinTemp\RichOle\Y(58A9DADM8(KTVH55LLW@A.png"/>
          <p:cNvPicPr/>
          <p:nvPr/>
        </p:nvPicPr>
        <p:blipFill>
          <a:blip r:embed="rId3"/>
          <a:stretch/>
        </p:blipFill>
        <p:spPr>
          <a:xfrm>
            <a:off x="809640" y="2205000"/>
            <a:ext cx="2936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22168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1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8"/>
          <p:cNvGrpSpPr/>
          <p:nvPr/>
        </p:nvGrpSpPr>
        <p:grpSpPr>
          <a:xfrm>
            <a:off x="1390680" y="3975120"/>
            <a:ext cx="2863800" cy="1572120"/>
            <a:chOff x="1390680" y="3975120"/>
            <a:chExt cx="2863800" cy="1572120"/>
          </a:xfrm>
        </p:grpSpPr>
        <p:pic>
          <p:nvPicPr>
            <p:cNvPr id="95" name="图示 4" descr=""/>
            <p:cNvPicPr/>
            <p:nvPr/>
          </p:nvPicPr>
          <p:blipFill>
            <a:blip r:embed="rId3"/>
            <a:stretch/>
          </p:blipFill>
          <p:spPr>
            <a:xfrm>
              <a:off x="1390680" y="3975120"/>
              <a:ext cx="28638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2"/>
            <p:cNvSpPr/>
            <p:nvPr/>
          </p:nvSpPr>
          <p:spPr>
            <a:xfrm>
              <a:off x="1435680" y="4588200"/>
              <a:ext cx="27957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末笔竖钩直而有力，比左部稍高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矩形 3"/>
          <p:cNvSpPr/>
          <p:nvPr/>
        </p:nvSpPr>
        <p:spPr>
          <a:xfrm>
            <a:off x="2170080" y="1868400"/>
            <a:ext cx="16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4"/>
          <p:cNvSpPr/>
          <p:nvPr/>
        </p:nvSpPr>
        <p:spPr>
          <a:xfrm>
            <a:off x="7205760" y="2733840"/>
            <a:ext cx="511200" cy="2232000"/>
          </a:xfrm>
          <a:custGeom>
            <a:avLst/>
            <a:gdLst/>
            <a:ahLst/>
            <a:rect l="l" t="t" r="r" b="b"/>
            <a:pathLst>
              <a:path w="643" h="2812">
                <a:moveTo>
                  <a:pt x="346" y="2695"/>
                </a:moveTo>
                <a:lnTo>
                  <a:pt x="344" y="2684"/>
                </a:lnTo>
                <a:lnTo>
                  <a:pt x="342" y="2672"/>
                </a:lnTo>
                <a:lnTo>
                  <a:pt x="340" y="2659"/>
                </a:lnTo>
                <a:lnTo>
                  <a:pt x="334" y="2647"/>
                </a:lnTo>
                <a:lnTo>
                  <a:pt x="328" y="2636"/>
                </a:lnTo>
                <a:lnTo>
                  <a:pt x="323" y="2624"/>
                </a:lnTo>
                <a:lnTo>
                  <a:pt x="313" y="2613"/>
                </a:lnTo>
                <a:lnTo>
                  <a:pt x="303" y="2599"/>
                </a:lnTo>
                <a:lnTo>
                  <a:pt x="294" y="2588"/>
                </a:lnTo>
                <a:lnTo>
                  <a:pt x="280" y="2576"/>
                </a:lnTo>
                <a:lnTo>
                  <a:pt x="267" y="2565"/>
                </a:lnTo>
                <a:lnTo>
                  <a:pt x="254" y="2553"/>
                </a:lnTo>
                <a:lnTo>
                  <a:pt x="236" y="2540"/>
                </a:lnTo>
                <a:lnTo>
                  <a:pt x="219" y="2528"/>
                </a:lnTo>
                <a:lnTo>
                  <a:pt x="202" y="2517"/>
                </a:lnTo>
                <a:lnTo>
                  <a:pt x="181" y="2505"/>
                </a:lnTo>
                <a:lnTo>
                  <a:pt x="160" y="2492"/>
                </a:lnTo>
                <a:lnTo>
                  <a:pt x="138" y="2482"/>
                </a:lnTo>
                <a:lnTo>
                  <a:pt x="119" y="2471"/>
                </a:lnTo>
                <a:lnTo>
                  <a:pt x="102" y="2461"/>
                </a:lnTo>
                <a:lnTo>
                  <a:pt x="85" y="2452"/>
                </a:lnTo>
                <a:lnTo>
                  <a:pt x="71" y="2442"/>
                </a:lnTo>
                <a:lnTo>
                  <a:pt x="58" y="2434"/>
                </a:lnTo>
                <a:lnTo>
                  <a:pt x="46" y="2427"/>
                </a:lnTo>
                <a:lnTo>
                  <a:pt x="37" y="2419"/>
                </a:lnTo>
                <a:lnTo>
                  <a:pt x="27" y="2411"/>
                </a:lnTo>
                <a:lnTo>
                  <a:pt x="19" y="2406"/>
                </a:lnTo>
                <a:lnTo>
                  <a:pt x="14" y="2398"/>
                </a:lnTo>
                <a:lnTo>
                  <a:pt x="10" y="2392"/>
                </a:lnTo>
                <a:lnTo>
                  <a:pt x="6" y="2386"/>
                </a:lnTo>
                <a:lnTo>
                  <a:pt x="4" y="2382"/>
                </a:lnTo>
                <a:lnTo>
                  <a:pt x="4" y="2377"/>
                </a:lnTo>
                <a:lnTo>
                  <a:pt x="2" y="2375"/>
                </a:lnTo>
                <a:lnTo>
                  <a:pt x="0" y="2373"/>
                </a:lnTo>
                <a:lnTo>
                  <a:pt x="2" y="2371"/>
                </a:lnTo>
                <a:lnTo>
                  <a:pt x="6" y="2369"/>
                </a:lnTo>
                <a:lnTo>
                  <a:pt x="10" y="2369"/>
                </a:lnTo>
                <a:lnTo>
                  <a:pt x="16" y="2367"/>
                </a:lnTo>
                <a:lnTo>
                  <a:pt x="23" y="2367"/>
                </a:lnTo>
                <a:lnTo>
                  <a:pt x="33" y="2367"/>
                </a:lnTo>
                <a:lnTo>
                  <a:pt x="42" y="2367"/>
                </a:lnTo>
                <a:lnTo>
                  <a:pt x="54" y="2367"/>
                </a:lnTo>
                <a:lnTo>
                  <a:pt x="67" y="2369"/>
                </a:lnTo>
                <a:lnTo>
                  <a:pt x="81" y="2369"/>
                </a:lnTo>
                <a:lnTo>
                  <a:pt x="98" y="2371"/>
                </a:lnTo>
                <a:lnTo>
                  <a:pt x="115" y="2373"/>
                </a:lnTo>
                <a:lnTo>
                  <a:pt x="133" y="2375"/>
                </a:lnTo>
                <a:lnTo>
                  <a:pt x="154" y="2377"/>
                </a:lnTo>
                <a:lnTo>
                  <a:pt x="173" y="2382"/>
                </a:lnTo>
                <a:lnTo>
                  <a:pt x="192" y="2386"/>
                </a:lnTo>
                <a:lnTo>
                  <a:pt x="211" y="2390"/>
                </a:lnTo>
                <a:lnTo>
                  <a:pt x="229" y="2394"/>
                </a:lnTo>
                <a:lnTo>
                  <a:pt x="244" y="2398"/>
                </a:lnTo>
                <a:lnTo>
                  <a:pt x="259" y="2400"/>
                </a:lnTo>
                <a:lnTo>
                  <a:pt x="275" y="2402"/>
                </a:lnTo>
                <a:lnTo>
                  <a:pt x="288" y="2404"/>
                </a:lnTo>
                <a:lnTo>
                  <a:pt x="302" y="2406"/>
                </a:lnTo>
                <a:lnTo>
                  <a:pt x="315" y="2407"/>
                </a:lnTo>
                <a:lnTo>
                  <a:pt x="327" y="2407"/>
                </a:lnTo>
                <a:lnTo>
                  <a:pt x="336" y="2407"/>
                </a:lnTo>
                <a:lnTo>
                  <a:pt x="346" y="2407"/>
                </a:lnTo>
                <a:lnTo>
                  <a:pt x="355" y="2406"/>
                </a:lnTo>
                <a:lnTo>
                  <a:pt x="365" y="2406"/>
                </a:lnTo>
                <a:lnTo>
                  <a:pt x="373" y="2404"/>
                </a:lnTo>
                <a:lnTo>
                  <a:pt x="380" y="2400"/>
                </a:lnTo>
                <a:lnTo>
                  <a:pt x="388" y="2396"/>
                </a:lnTo>
                <a:lnTo>
                  <a:pt x="394" y="2392"/>
                </a:lnTo>
                <a:lnTo>
                  <a:pt x="401" y="2388"/>
                </a:lnTo>
                <a:lnTo>
                  <a:pt x="407" y="2382"/>
                </a:lnTo>
                <a:lnTo>
                  <a:pt x="413" y="2377"/>
                </a:lnTo>
                <a:lnTo>
                  <a:pt x="419" y="2369"/>
                </a:lnTo>
                <a:lnTo>
                  <a:pt x="424" y="2363"/>
                </a:lnTo>
                <a:lnTo>
                  <a:pt x="428" y="2354"/>
                </a:lnTo>
                <a:lnTo>
                  <a:pt x="434" y="2346"/>
                </a:lnTo>
                <a:lnTo>
                  <a:pt x="438" y="2336"/>
                </a:lnTo>
                <a:lnTo>
                  <a:pt x="442" y="2325"/>
                </a:lnTo>
                <a:lnTo>
                  <a:pt x="446" y="2313"/>
                </a:lnTo>
                <a:lnTo>
                  <a:pt x="449" y="2302"/>
                </a:lnTo>
                <a:lnTo>
                  <a:pt x="451" y="2288"/>
                </a:lnTo>
                <a:lnTo>
                  <a:pt x="455" y="2275"/>
                </a:lnTo>
                <a:lnTo>
                  <a:pt x="455" y="2269"/>
                </a:lnTo>
                <a:lnTo>
                  <a:pt x="457" y="2260"/>
                </a:lnTo>
                <a:lnTo>
                  <a:pt x="459" y="2252"/>
                </a:lnTo>
                <a:lnTo>
                  <a:pt x="459" y="2240"/>
                </a:lnTo>
                <a:lnTo>
                  <a:pt x="461" y="2229"/>
                </a:lnTo>
                <a:lnTo>
                  <a:pt x="461" y="2215"/>
                </a:lnTo>
                <a:lnTo>
                  <a:pt x="461" y="2200"/>
                </a:lnTo>
                <a:lnTo>
                  <a:pt x="463" y="2185"/>
                </a:lnTo>
                <a:lnTo>
                  <a:pt x="463" y="2168"/>
                </a:lnTo>
                <a:lnTo>
                  <a:pt x="463" y="2148"/>
                </a:lnTo>
                <a:lnTo>
                  <a:pt x="465" y="2129"/>
                </a:lnTo>
                <a:lnTo>
                  <a:pt x="465" y="2106"/>
                </a:lnTo>
                <a:lnTo>
                  <a:pt x="465" y="2085"/>
                </a:lnTo>
                <a:lnTo>
                  <a:pt x="465" y="2060"/>
                </a:lnTo>
                <a:lnTo>
                  <a:pt x="465" y="2035"/>
                </a:lnTo>
                <a:lnTo>
                  <a:pt x="465" y="2008"/>
                </a:lnTo>
                <a:lnTo>
                  <a:pt x="465" y="1979"/>
                </a:lnTo>
                <a:lnTo>
                  <a:pt x="465" y="1951"/>
                </a:lnTo>
                <a:lnTo>
                  <a:pt x="465" y="1920"/>
                </a:lnTo>
                <a:lnTo>
                  <a:pt x="465" y="1887"/>
                </a:lnTo>
                <a:lnTo>
                  <a:pt x="465" y="1855"/>
                </a:lnTo>
                <a:lnTo>
                  <a:pt x="463" y="1820"/>
                </a:lnTo>
                <a:lnTo>
                  <a:pt x="463" y="1784"/>
                </a:lnTo>
                <a:lnTo>
                  <a:pt x="463" y="1745"/>
                </a:lnTo>
                <a:lnTo>
                  <a:pt x="461" y="1707"/>
                </a:lnTo>
                <a:lnTo>
                  <a:pt x="461" y="1667"/>
                </a:lnTo>
                <a:lnTo>
                  <a:pt x="461" y="1624"/>
                </a:lnTo>
                <a:lnTo>
                  <a:pt x="459" y="1582"/>
                </a:lnTo>
                <a:lnTo>
                  <a:pt x="459" y="1538"/>
                </a:lnTo>
                <a:lnTo>
                  <a:pt x="457" y="1492"/>
                </a:lnTo>
                <a:lnTo>
                  <a:pt x="455" y="1446"/>
                </a:lnTo>
                <a:lnTo>
                  <a:pt x="455" y="1398"/>
                </a:lnTo>
                <a:lnTo>
                  <a:pt x="453" y="1348"/>
                </a:lnTo>
                <a:lnTo>
                  <a:pt x="453" y="1302"/>
                </a:lnTo>
                <a:lnTo>
                  <a:pt x="451" y="1256"/>
                </a:lnTo>
                <a:lnTo>
                  <a:pt x="449" y="1210"/>
                </a:lnTo>
                <a:lnTo>
                  <a:pt x="449" y="1166"/>
                </a:lnTo>
                <a:lnTo>
                  <a:pt x="447" y="1123"/>
                </a:lnTo>
                <a:lnTo>
                  <a:pt x="447" y="1081"/>
                </a:lnTo>
                <a:lnTo>
                  <a:pt x="447" y="1041"/>
                </a:lnTo>
                <a:lnTo>
                  <a:pt x="446" y="1000"/>
                </a:lnTo>
                <a:lnTo>
                  <a:pt x="446" y="962"/>
                </a:lnTo>
                <a:lnTo>
                  <a:pt x="444" y="926"/>
                </a:lnTo>
                <a:lnTo>
                  <a:pt x="444" y="889"/>
                </a:lnTo>
                <a:lnTo>
                  <a:pt x="444" y="855"/>
                </a:lnTo>
                <a:lnTo>
                  <a:pt x="442" y="820"/>
                </a:lnTo>
                <a:lnTo>
                  <a:pt x="442" y="785"/>
                </a:lnTo>
                <a:lnTo>
                  <a:pt x="442" y="755"/>
                </a:lnTo>
                <a:lnTo>
                  <a:pt x="440" y="724"/>
                </a:lnTo>
                <a:lnTo>
                  <a:pt x="440" y="693"/>
                </a:lnTo>
                <a:lnTo>
                  <a:pt x="440" y="665"/>
                </a:lnTo>
                <a:lnTo>
                  <a:pt x="438" y="636"/>
                </a:lnTo>
                <a:lnTo>
                  <a:pt x="438" y="609"/>
                </a:lnTo>
                <a:lnTo>
                  <a:pt x="438" y="584"/>
                </a:lnTo>
                <a:lnTo>
                  <a:pt x="436" y="559"/>
                </a:lnTo>
                <a:lnTo>
                  <a:pt x="436" y="534"/>
                </a:lnTo>
                <a:lnTo>
                  <a:pt x="434" y="511"/>
                </a:lnTo>
                <a:lnTo>
                  <a:pt x="434" y="490"/>
                </a:lnTo>
                <a:lnTo>
                  <a:pt x="432" y="469"/>
                </a:lnTo>
                <a:lnTo>
                  <a:pt x="432" y="448"/>
                </a:lnTo>
                <a:lnTo>
                  <a:pt x="430" y="430"/>
                </a:lnTo>
                <a:lnTo>
                  <a:pt x="430" y="411"/>
                </a:lnTo>
                <a:lnTo>
                  <a:pt x="428" y="394"/>
                </a:lnTo>
                <a:lnTo>
                  <a:pt x="428" y="379"/>
                </a:lnTo>
                <a:lnTo>
                  <a:pt x="424" y="350"/>
                </a:lnTo>
                <a:lnTo>
                  <a:pt x="422" y="323"/>
                </a:lnTo>
                <a:lnTo>
                  <a:pt x="419" y="298"/>
                </a:lnTo>
                <a:lnTo>
                  <a:pt x="415" y="273"/>
                </a:lnTo>
                <a:lnTo>
                  <a:pt x="411" y="250"/>
                </a:lnTo>
                <a:lnTo>
                  <a:pt x="407" y="229"/>
                </a:lnTo>
                <a:lnTo>
                  <a:pt x="403" y="208"/>
                </a:lnTo>
                <a:lnTo>
                  <a:pt x="398" y="189"/>
                </a:lnTo>
                <a:lnTo>
                  <a:pt x="394" y="171"/>
                </a:lnTo>
                <a:lnTo>
                  <a:pt x="388" y="156"/>
                </a:lnTo>
                <a:lnTo>
                  <a:pt x="384" y="141"/>
                </a:lnTo>
                <a:lnTo>
                  <a:pt x="378" y="127"/>
                </a:lnTo>
                <a:lnTo>
                  <a:pt x="374" y="114"/>
                </a:lnTo>
                <a:lnTo>
                  <a:pt x="369" y="104"/>
                </a:lnTo>
                <a:lnTo>
                  <a:pt x="363" y="94"/>
                </a:lnTo>
                <a:lnTo>
                  <a:pt x="359" y="87"/>
                </a:lnTo>
                <a:lnTo>
                  <a:pt x="351" y="79"/>
                </a:lnTo>
                <a:lnTo>
                  <a:pt x="346" y="71"/>
                </a:lnTo>
                <a:lnTo>
                  <a:pt x="340" y="66"/>
                </a:lnTo>
                <a:lnTo>
                  <a:pt x="336" y="60"/>
                </a:lnTo>
                <a:lnTo>
                  <a:pt x="332" y="54"/>
                </a:lnTo>
                <a:lnTo>
                  <a:pt x="330" y="48"/>
                </a:lnTo>
                <a:lnTo>
                  <a:pt x="328" y="43"/>
                </a:lnTo>
                <a:lnTo>
                  <a:pt x="327" y="39"/>
                </a:lnTo>
                <a:lnTo>
                  <a:pt x="327" y="33"/>
                </a:lnTo>
                <a:lnTo>
                  <a:pt x="327" y="29"/>
                </a:lnTo>
                <a:lnTo>
                  <a:pt x="328" y="25"/>
                </a:lnTo>
                <a:lnTo>
                  <a:pt x="330" y="22"/>
                </a:lnTo>
                <a:lnTo>
                  <a:pt x="332" y="18"/>
                </a:lnTo>
                <a:lnTo>
                  <a:pt x="336" y="16"/>
                </a:lnTo>
                <a:lnTo>
                  <a:pt x="340" y="12"/>
                </a:lnTo>
                <a:lnTo>
                  <a:pt x="346" y="10"/>
                </a:lnTo>
                <a:lnTo>
                  <a:pt x="348" y="8"/>
                </a:lnTo>
                <a:lnTo>
                  <a:pt x="351" y="6"/>
                </a:lnTo>
                <a:lnTo>
                  <a:pt x="357" y="4"/>
                </a:lnTo>
                <a:lnTo>
                  <a:pt x="363" y="2"/>
                </a:lnTo>
                <a:lnTo>
                  <a:pt x="369" y="2"/>
                </a:lnTo>
                <a:lnTo>
                  <a:pt x="376" y="0"/>
                </a:lnTo>
                <a:lnTo>
                  <a:pt x="386" y="0"/>
                </a:lnTo>
                <a:lnTo>
                  <a:pt x="396" y="2"/>
                </a:lnTo>
                <a:lnTo>
                  <a:pt x="405" y="2"/>
                </a:lnTo>
                <a:lnTo>
                  <a:pt x="415" y="4"/>
                </a:lnTo>
                <a:lnTo>
                  <a:pt x="428" y="6"/>
                </a:lnTo>
                <a:lnTo>
                  <a:pt x="440" y="8"/>
                </a:lnTo>
                <a:lnTo>
                  <a:pt x="453" y="10"/>
                </a:lnTo>
                <a:lnTo>
                  <a:pt x="467" y="14"/>
                </a:lnTo>
                <a:lnTo>
                  <a:pt x="480" y="18"/>
                </a:lnTo>
                <a:lnTo>
                  <a:pt x="495" y="23"/>
                </a:lnTo>
                <a:lnTo>
                  <a:pt x="511" y="27"/>
                </a:lnTo>
                <a:lnTo>
                  <a:pt x="524" y="33"/>
                </a:lnTo>
                <a:lnTo>
                  <a:pt x="538" y="37"/>
                </a:lnTo>
                <a:lnTo>
                  <a:pt x="549" y="43"/>
                </a:lnTo>
                <a:lnTo>
                  <a:pt x="561" y="46"/>
                </a:lnTo>
                <a:lnTo>
                  <a:pt x="572" y="50"/>
                </a:lnTo>
                <a:lnTo>
                  <a:pt x="582" y="56"/>
                </a:lnTo>
                <a:lnTo>
                  <a:pt x="589" y="60"/>
                </a:lnTo>
                <a:lnTo>
                  <a:pt x="597" y="66"/>
                </a:lnTo>
                <a:lnTo>
                  <a:pt x="605" y="70"/>
                </a:lnTo>
                <a:lnTo>
                  <a:pt x="612" y="75"/>
                </a:lnTo>
                <a:lnTo>
                  <a:pt x="616" y="79"/>
                </a:lnTo>
                <a:lnTo>
                  <a:pt x="622" y="85"/>
                </a:lnTo>
                <a:lnTo>
                  <a:pt x="626" y="89"/>
                </a:lnTo>
                <a:lnTo>
                  <a:pt x="630" y="94"/>
                </a:lnTo>
                <a:lnTo>
                  <a:pt x="634" y="98"/>
                </a:lnTo>
                <a:lnTo>
                  <a:pt x="636" y="106"/>
                </a:lnTo>
                <a:lnTo>
                  <a:pt x="637" y="112"/>
                </a:lnTo>
                <a:lnTo>
                  <a:pt x="637" y="119"/>
                </a:lnTo>
                <a:lnTo>
                  <a:pt x="637" y="125"/>
                </a:lnTo>
                <a:lnTo>
                  <a:pt x="637" y="137"/>
                </a:lnTo>
                <a:lnTo>
                  <a:pt x="636" y="150"/>
                </a:lnTo>
                <a:lnTo>
                  <a:pt x="634" y="162"/>
                </a:lnTo>
                <a:lnTo>
                  <a:pt x="630" y="173"/>
                </a:lnTo>
                <a:lnTo>
                  <a:pt x="624" y="187"/>
                </a:lnTo>
                <a:lnTo>
                  <a:pt x="620" y="200"/>
                </a:lnTo>
                <a:lnTo>
                  <a:pt x="618" y="206"/>
                </a:lnTo>
                <a:lnTo>
                  <a:pt x="616" y="212"/>
                </a:lnTo>
                <a:lnTo>
                  <a:pt x="616" y="219"/>
                </a:lnTo>
                <a:lnTo>
                  <a:pt x="614" y="231"/>
                </a:lnTo>
                <a:lnTo>
                  <a:pt x="614" y="242"/>
                </a:lnTo>
                <a:lnTo>
                  <a:pt x="612" y="256"/>
                </a:lnTo>
                <a:lnTo>
                  <a:pt x="612" y="271"/>
                </a:lnTo>
                <a:lnTo>
                  <a:pt x="612" y="288"/>
                </a:lnTo>
                <a:lnTo>
                  <a:pt x="611" y="309"/>
                </a:lnTo>
                <a:lnTo>
                  <a:pt x="611" y="331"/>
                </a:lnTo>
                <a:lnTo>
                  <a:pt x="611" y="354"/>
                </a:lnTo>
                <a:lnTo>
                  <a:pt x="611" y="379"/>
                </a:lnTo>
                <a:lnTo>
                  <a:pt x="611" y="405"/>
                </a:lnTo>
                <a:lnTo>
                  <a:pt x="611" y="434"/>
                </a:lnTo>
                <a:lnTo>
                  <a:pt x="611" y="465"/>
                </a:lnTo>
                <a:lnTo>
                  <a:pt x="611" y="498"/>
                </a:lnTo>
                <a:lnTo>
                  <a:pt x="611" y="532"/>
                </a:lnTo>
                <a:lnTo>
                  <a:pt x="612" y="569"/>
                </a:lnTo>
                <a:lnTo>
                  <a:pt x="612" y="607"/>
                </a:lnTo>
                <a:lnTo>
                  <a:pt x="612" y="647"/>
                </a:lnTo>
                <a:lnTo>
                  <a:pt x="614" y="690"/>
                </a:lnTo>
                <a:lnTo>
                  <a:pt x="614" y="734"/>
                </a:lnTo>
                <a:lnTo>
                  <a:pt x="616" y="780"/>
                </a:lnTo>
                <a:lnTo>
                  <a:pt x="616" y="805"/>
                </a:lnTo>
                <a:lnTo>
                  <a:pt x="618" y="830"/>
                </a:lnTo>
                <a:lnTo>
                  <a:pt x="618" y="853"/>
                </a:lnTo>
                <a:lnTo>
                  <a:pt x="618" y="880"/>
                </a:lnTo>
                <a:lnTo>
                  <a:pt x="620" y="904"/>
                </a:lnTo>
                <a:lnTo>
                  <a:pt x="620" y="931"/>
                </a:lnTo>
                <a:lnTo>
                  <a:pt x="622" y="956"/>
                </a:lnTo>
                <a:lnTo>
                  <a:pt x="622" y="985"/>
                </a:lnTo>
                <a:lnTo>
                  <a:pt x="622" y="1012"/>
                </a:lnTo>
                <a:lnTo>
                  <a:pt x="624" y="1041"/>
                </a:lnTo>
                <a:lnTo>
                  <a:pt x="624" y="1068"/>
                </a:lnTo>
                <a:lnTo>
                  <a:pt x="626" y="1098"/>
                </a:lnTo>
                <a:lnTo>
                  <a:pt x="626" y="1127"/>
                </a:lnTo>
                <a:lnTo>
                  <a:pt x="628" y="1158"/>
                </a:lnTo>
                <a:lnTo>
                  <a:pt x="630" y="1189"/>
                </a:lnTo>
                <a:lnTo>
                  <a:pt x="630" y="1219"/>
                </a:lnTo>
                <a:lnTo>
                  <a:pt x="632" y="1250"/>
                </a:lnTo>
                <a:lnTo>
                  <a:pt x="634" y="1283"/>
                </a:lnTo>
                <a:lnTo>
                  <a:pt x="634" y="1346"/>
                </a:lnTo>
                <a:lnTo>
                  <a:pt x="636" y="1409"/>
                </a:lnTo>
                <a:lnTo>
                  <a:pt x="636" y="1471"/>
                </a:lnTo>
                <a:lnTo>
                  <a:pt x="637" y="1530"/>
                </a:lnTo>
                <a:lnTo>
                  <a:pt x="637" y="1588"/>
                </a:lnTo>
                <a:lnTo>
                  <a:pt x="639" y="1643"/>
                </a:lnTo>
                <a:lnTo>
                  <a:pt x="639" y="1697"/>
                </a:lnTo>
                <a:lnTo>
                  <a:pt x="639" y="1749"/>
                </a:lnTo>
                <a:lnTo>
                  <a:pt x="641" y="1801"/>
                </a:lnTo>
                <a:lnTo>
                  <a:pt x="641" y="1849"/>
                </a:lnTo>
                <a:lnTo>
                  <a:pt x="641" y="1895"/>
                </a:lnTo>
                <a:lnTo>
                  <a:pt x="641" y="1941"/>
                </a:lnTo>
                <a:lnTo>
                  <a:pt x="643" y="1983"/>
                </a:lnTo>
                <a:lnTo>
                  <a:pt x="643" y="2025"/>
                </a:lnTo>
                <a:lnTo>
                  <a:pt x="643" y="2066"/>
                </a:lnTo>
                <a:lnTo>
                  <a:pt x="643" y="2102"/>
                </a:lnTo>
                <a:lnTo>
                  <a:pt x="643" y="2139"/>
                </a:lnTo>
                <a:lnTo>
                  <a:pt x="643" y="2173"/>
                </a:lnTo>
                <a:lnTo>
                  <a:pt x="643" y="2206"/>
                </a:lnTo>
                <a:lnTo>
                  <a:pt x="641" y="2237"/>
                </a:lnTo>
                <a:lnTo>
                  <a:pt x="641" y="2265"/>
                </a:lnTo>
                <a:lnTo>
                  <a:pt x="641" y="2292"/>
                </a:lnTo>
                <a:lnTo>
                  <a:pt x="641" y="2319"/>
                </a:lnTo>
                <a:lnTo>
                  <a:pt x="639" y="2342"/>
                </a:lnTo>
                <a:lnTo>
                  <a:pt x="639" y="2363"/>
                </a:lnTo>
                <a:lnTo>
                  <a:pt x="639" y="2384"/>
                </a:lnTo>
                <a:lnTo>
                  <a:pt x="637" y="2402"/>
                </a:lnTo>
                <a:lnTo>
                  <a:pt x="637" y="2419"/>
                </a:lnTo>
                <a:lnTo>
                  <a:pt x="636" y="2432"/>
                </a:lnTo>
                <a:lnTo>
                  <a:pt x="636" y="2446"/>
                </a:lnTo>
                <a:lnTo>
                  <a:pt x="634" y="2457"/>
                </a:lnTo>
                <a:lnTo>
                  <a:pt x="634" y="2467"/>
                </a:lnTo>
                <a:lnTo>
                  <a:pt x="622" y="2500"/>
                </a:lnTo>
                <a:lnTo>
                  <a:pt x="611" y="2532"/>
                </a:lnTo>
                <a:lnTo>
                  <a:pt x="597" y="2565"/>
                </a:lnTo>
                <a:lnTo>
                  <a:pt x="584" y="2597"/>
                </a:lnTo>
                <a:lnTo>
                  <a:pt x="568" y="2630"/>
                </a:lnTo>
                <a:lnTo>
                  <a:pt x="553" y="2661"/>
                </a:lnTo>
                <a:lnTo>
                  <a:pt x="538" y="2692"/>
                </a:lnTo>
                <a:lnTo>
                  <a:pt x="524" y="2720"/>
                </a:lnTo>
                <a:lnTo>
                  <a:pt x="517" y="2732"/>
                </a:lnTo>
                <a:lnTo>
                  <a:pt x="509" y="2743"/>
                </a:lnTo>
                <a:lnTo>
                  <a:pt x="501" y="2753"/>
                </a:lnTo>
                <a:lnTo>
                  <a:pt x="493" y="2763"/>
                </a:lnTo>
                <a:lnTo>
                  <a:pt x="486" y="2772"/>
                </a:lnTo>
                <a:lnTo>
                  <a:pt x="478" y="2780"/>
                </a:lnTo>
                <a:lnTo>
                  <a:pt x="470" y="2787"/>
                </a:lnTo>
                <a:lnTo>
                  <a:pt x="463" y="2793"/>
                </a:lnTo>
                <a:lnTo>
                  <a:pt x="457" y="2799"/>
                </a:lnTo>
                <a:lnTo>
                  <a:pt x="449" y="2805"/>
                </a:lnTo>
                <a:lnTo>
                  <a:pt x="444" y="2807"/>
                </a:lnTo>
                <a:lnTo>
                  <a:pt x="436" y="2811"/>
                </a:lnTo>
                <a:lnTo>
                  <a:pt x="430" y="2812"/>
                </a:lnTo>
                <a:lnTo>
                  <a:pt x="424" y="2812"/>
                </a:lnTo>
                <a:lnTo>
                  <a:pt x="419" y="2811"/>
                </a:lnTo>
                <a:lnTo>
                  <a:pt x="415" y="2811"/>
                </a:lnTo>
                <a:lnTo>
                  <a:pt x="407" y="2807"/>
                </a:lnTo>
                <a:lnTo>
                  <a:pt x="399" y="2803"/>
                </a:lnTo>
                <a:lnTo>
                  <a:pt x="394" y="2799"/>
                </a:lnTo>
                <a:lnTo>
                  <a:pt x="388" y="2795"/>
                </a:lnTo>
                <a:lnTo>
                  <a:pt x="382" y="2789"/>
                </a:lnTo>
                <a:lnTo>
                  <a:pt x="378" y="2784"/>
                </a:lnTo>
                <a:lnTo>
                  <a:pt x="373" y="2778"/>
                </a:lnTo>
                <a:lnTo>
                  <a:pt x="369" y="2772"/>
                </a:lnTo>
                <a:lnTo>
                  <a:pt x="365" y="2764"/>
                </a:lnTo>
                <a:lnTo>
                  <a:pt x="361" y="2757"/>
                </a:lnTo>
                <a:lnTo>
                  <a:pt x="359" y="2747"/>
                </a:lnTo>
                <a:lnTo>
                  <a:pt x="355" y="2738"/>
                </a:lnTo>
                <a:lnTo>
                  <a:pt x="353" y="2728"/>
                </a:lnTo>
                <a:lnTo>
                  <a:pt x="350" y="2718"/>
                </a:lnTo>
                <a:lnTo>
                  <a:pt x="348" y="2707"/>
                </a:lnTo>
                <a:lnTo>
                  <a:pt x="346" y="26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5"/>
          <p:cNvSpPr/>
          <p:nvPr/>
        </p:nvSpPr>
        <p:spPr>
          <a:xfrm>
            <a:off x="7048440" y="3309840"/>
            <a:ext cx="214200" cy="955800"/>
          </a:xfrm>
          <a:custGeom>
            <a:avLst/>
            <a:gdLst/>
            <a:ahLst/>
            <a:rect l="l" t="t" r="r" b="b"/>
            <a:pathLst>
              <a:path w="268" h="1203">
                <a:moveTo>
                  <a:pt x="145" y="33"/>
                </a:moveTo>
                <a:lnTo>
                  <a:pt x="161" y="40"/>
                </a:lnTo>
                <a:lnTo>
                  <a:pt x="174" y="46"/>
                </a:lnTo>
                <a:lnTo>
                  <a:pt x="188" y="54"/>
                </a:lnTo>
                <a:lnTo>
                  <a:pt x="199" y="59"/>
                </a:lnTo>
                <a:lnTo>
                  <a:pt x="211" y="65"/>
                </a:lnTo>
                <a:lnTo>
                  <a:pt x="220" y="71"/>
                </a:lnTo>
                <a:lnTo>
                  <a:pt x="230" y="77"/>
                </a:lnTo>
                <a:lnTo>
                  <a:pt x="238" y="82"/>
                </a:lnTo>
                <a:lnTo>
                  <a:pt x="245" y="88"/>
                </a:lnTo>
                <a:lnTo>
                  <a:pt x="251" y="92"/>
                </a:lnTo>
                <a:lnTo>
                  <a:pt x="257" y="98"/>
                </a:lnTo>
                <a:lnTo>
                  <a:pt x="261" y="104"/>
                </a:lnTo>
                <a:lnTo>
                  <a:pt x="264" y="107"/>
                </a:lnTo>
                <a:lnTo>
                  <a:pt x="266" y="113"/>
                </a:lnTo>
                <a:lnTo>
                  <a:pt x="268" y="117"/>
                </a:lnTo>
                <a:lnTo>
                  <a:pt x="268" y="123"/>
                </a:lnTo>
                <a:lnTo>
                  <a:pt x="266" y="127"/>
                </a:lnTo>
                <a:lnTo>
                  <a:pt x="264" y="132"/>
                </a:lnTo>
                <a:lnTo>
                  <a:pt x="262" y="140"/>
                </a:lnTo>
                <a:lnTo>
                  <a:pt x="261" y="148"/>
                </a:lnTo>
                <a:lnTo>
                  <a:pt x="259" y="157"/>
                </a:lnTo>
                <a:lnTo>
                  <a:pt x="257" y="165"/>
                </a:lnTo>
                <a:lnTo>
                  <a:pt x="257" y="176"/>
                </a:lnTo>
                <a:lnTo>
                  <a:pt x="255" y="186"/>
                </a:lnTo>
                <a:lnTo>
                  <a:pt x="253" y="200"/>
                </a:lnTo>
                <a:lnTo>
                  <a:pt x="253" y="211"/>
                </a:lnTo>
                <a:lnTo>
                  <a:pt x="251" y="224"/>
                </a:lnTo>
                <a:lnTo>
                  <a:pt x="249" y="238"/>
                </a:lnTo>
                <a:lnTo>
                  <a:pt x="247" y="253"/>
                </a:lnTo>
                <a:lnTo>
                  <a:pt x="245" y="267"/>
                </a:lnTo>
                <a:lnTo>
                  <a:pt x="243" y="284"/>
                </a:lnTo>
                <a:lnTo>
                  <a:pt x="241" y="299"/>
                </a:lnTo>
                <a:lnTo>
                  <a:pt x="239" y="317"/>
                </a:lnTo>
                <a:lnTo>
                  <a:pt x="236" y="336"/>
                </a:lnTo>
                <a:lnTo>
                  <a:pt x="236" y="355"/>
                </a:lnTo>
                <a:lnTo>
                  <a:pt x="234" y="376"/>
                </a:lnTo>
                <a:lnTo>
                  <a:pt x="232" y="399"/>
                </a:lnTo>
                <a:lnTo>
                  <a:pt x="230" y="422"/>
                </a:lnTo>
                <a:lnTo>
                  <a:pt x="230" y="445"/>
                </a:lnTo>
                <a:lnTo>
                  <a:pt x="230" y="472"/>
                </a:lnTo>
                <a:lnTo>
                  <a:pt x="228" y="499"/>
                </a:lnTo>
                <a:lnTo>
                  <a:pt x="228" y="526"/>
                </a:lnTo>
                <a:lnTo>
                  <a:pt x="228" y="557"/>
                </a:lnTo>
                <a:lnTo>
                  <a:pt x="228" y="585"/>
                </a:lnTo>
                <a:lnTo>
                  <a:pt x="228" y="618"/>
                </a:lnTo>
                <a:lnTo>
                  <a:pt x="228" y="651"/>
                </a:lnTo>
                <a:lnTo>
                  <a:pt x="228" y="685"/>
                </a:lnTo>
                <a:lnTo>
                  <a:pt x="228" y="720"/>
                </a:lnTo>
                <a:lnTo>
                  <a:pt x="228" y="754"/>
                </a:lnTo>
                <a:lnTo>
                  <a:pt x="226" y="789"/>
                </a:lnTo>
                <a:lnTo>
                  <a:pt x="226" y="820"/>
                </a:lnTo>
                <a:lnTo>
                  <a:pt x="226" y="850"/>
                </a:lnTo>
                <a:lnTo>
                  <a:pt x="224" y="881"/>
                </a:lnTo>
                <a:lnTo>
                  <a:pt x="222" y="908"/>
                </a:lnTo>
                <a:lnTo>
                  <a:pt x="220" y="935"/>
                </a:lnTo>
                <a:lnTo>
                  <a:pt x="218" y="958"/>
                </a:lnTo>
                <a:lnTo>
                  <a:pt x="216" y="981"/>
                </a:lnTo>
                <a:lnTo>
                  <a:pt x="214" y="1004"/>
                </a:lnTo>
                <a:lnTo>
                  <a:pt x="213" y="1023"/>
                </a:lnTo>
                <a:lnTo>
                  <a:pt x="211" y="1042"/>
                </a:lnTo>
                <a:lnTo>
                  <a:pt x="207" y="1059"/>
                </a:lnTo>
                <a:lnTo>
                  <a:pt x="205" y="1075"/>
                </a:lnTo>
                <a:lnTo>
                  <a:pt x="203" y="1088"/>
                </a:lnTo>
                <a:lnTo>
                  <a:pt x="201" y="1102"/>
                </a:lnTo>
                <a:lnTo>
                  <a:pt x="195" y="1113"/>
                </a:lnTo>
                <a:lnTo>
                  <a:pt x="190" y="1125"/>
                </a:lnTo>
                <a:lnTo>
                  <a:pt x="186" y="1134"/>
                </a:lnTo>
                <a:lnTo>
                  <a:pt x="182" y="1144"/>
                </a:lnTo>
                <a:lnTo>
                  <a:pt x="178" y="1154"/>
                </a:lnTo>
                <a:lnTo>
                  <a:pt x="174" y="1161"/>
                </a:lnTo>
                <a:lnTo>
                  <a:pt x="170" y="1169"/>
                </a:lnTo>
                <a:lnTo>
                  <a:pt x="168" y="1177"/>
                </a:lnTo>
                <a:lnTo>
                  <a:pt x="165" y="1182"/>
                </a:lnTo>
                <a:lnTo>
                  <a:pt x="161" y="1188"/>
                </a:lnTo>
                <a:lnTo>
                  <a:pt x="159" y="1192"/>
                </a:lnTo>
                <a:lnTo>
                  <a:pt x="155" y="1196"/>
                </a:lnTo>
                <a:lnTo>
                  <a:pt x="153" y="1200"/>
                </a:lnTo>
                <a:lnTo>
                  <a:pt x="151" y="1201"/>
                </a:lnTo>
                <a:lnTo>
                  <a:pt x="147" y="1203"/>
                </a:lnTo>
                <a:lnTo>
                  <a:pt x="145" y="1203"/>
                </a:lnTo>
                <a:lnTo>
                  <a:pt x="142" y="1203"/>
                </a:lnTo>
                <a:lnTo>
                  <a:pt x="140" y="1201"/>
                </a:lnTo>
                <a:lnTo>
                  <a:pt x="136" y="1201"/>
                </a:lnTo>
                <a:lnTo>
                  <a:pt x="132" y="1198"/>
                </a:lnTo>
                <a:lnTo>
                  <a:pt x="128" y="1196"/>
                </a:lnTo>
                <a:lnTo>
                  <a:pt x="126" y="1192"/>
                </a:lnTo>
                <a:lnTo>
                  <a:pt x="122" y="1188"/>
                </a:lnTo>
                <a:lnTo>
                  <a:pt x="119" y="1182"/>
                </a:lnTo>
                <a:lnTo>
                  <a:pt x="115" y="1177"/>
                </a:lnTo>
                <a:lnTo>
                  <a:pt x="111" y="1171"/>
                </a:lnTo>
                <a:lnTo>
                  <a:pt x="107" y="1163"/>
                </a:lnTo>
                <a:lnTo>
                  <a:pt x="103" y="1155"/>
                </a:lnTo>
                <a:lnTo>
                  <a:pt x="99" y="1146"/>
                </a:lnTo>
                <a:lnTo>
                  <a:pt x="95" y="1136"/>
                </a:lnTo>
                <a:lnTo>
                  <a:pt x="94" y="1127"/>
                </a:lnTo>
                <a:lnTo>
                  <a:pt x="90" y="1115"/>
                </a:lnTo>
                <a:lnTo>
                  <a:pt x="80" y="1096"/>
                </a:lnTo>
                <a:lnTo>
                  <a:pt x="72" y="1079"/>
                </a:lnTo>
                <a:lnTo>
                  <a:pt x="65" y="1063"/>
                </a:lnTo>
                <a:lnTo>
                  <a:pt x="59" y="1050"/>
                </a:lnTo>
                <a:lnTo>
                  <a:pt x="55" y="1036"/>
                </a:lnTo>
                <a:lnTo>
                  <a:pt x="53" y="1031"/>
                </a:lnTo>
                <a:lnTo>
                  <a:pt x="51" y="1027"/>
                </a:lnTo>
                <a:lnTo>
                  <a:pt x="51" y="1023"/>
                </a:lnTo>
                <a:lnTo>
                  <a:pt x="49" y="1019"/>
                </a:lnTo>
                <a:lnTo>
                  <a:pt x="49" y="1015"/>
                </a:lnTo>
                <a:lnTo>
                  <a:pt x="49" y="1013"/>
                </a:lnTo>
                <a:lnTo>
                  <a:pt x="49" y="1010"/>
                </a:lnTo>
                <a:lnTo>
                  <a:pt x="49" y="1006"/>
                </a:lnTo>
                <a:lnTo>
                  <a:pt x="49" y="1002"/>
                </a:lnTo>
                <a:lnTo>
                  <a:pt x="49" y="998"/>
                </a:lnTo>
                <a:lnTo>
                  <a:pt x="49" y="992"/>
                </a:lnTo>
                <a:lnTo>
                  <a:pt x="49" y="987"/>
                </a:lnTo>
                <a:lnTo>
                  <a:pt x="51" y="981"/>
                </a:lnTo>
                <a:lnTo>
                  <a:pt x="51" y="973"/>
                </a:lnTo>
                <a:lnTo>
                  <a:pt x="51" y="965"/>
                </a:lnTo>
                <a:lnTo>
                  <a:pt x="53" y="956"/>
                </a:lnTo>
                <a:lnTo>
                  <a:pt x="53" y="946"/>
                </a:lnTo>
                <a:lnTo>
                  <a:pt x="55" y="935"/>
                </a:lnTo>
                <a:lnTo>
                  <a:pt x="57" y="925"/>
                </a:lnTo>
                <a:lnTo>
                  <a:pt x="59" y="912"/>
                </a:lnTo>
                <a:lnTo>
                  <a:pt x="61" y="898"/>
                </a:lnTo>
                <a:lnTo>
                  <a:pt x="63" y="885"/>
                </a:lnTo>
                <a:lnTo>
                  <a:pt x="65" y="869"/>
                </a:lnTo>
                <a:lnTo>
                  <a:pt x="67" y="854"/>
                </a:lnTo>
                <a:lnTo>
                  <a:pt x="69" y="835"/>
                </a:lnTo>
                <a:lnTo>
                  <a:pt x="71" y="816"/>
                </a:lnTo>
                <a:lnTo>
                  <a:pt x="72" y="795"/>
                </a:lnTo>
                <a:lnTo>
                  <a:pt x="72" y="772"/>
                </a:lnTo>
                <a:lnTo>
                  <a:pt x="74" y="747"/>
                </a:lnTo>
                <a:lnTo>
                  <a:pt x="74" y="722"/>
                </a:lnTo>
                <a:lnTo>
                  <a:pt x="76" y="693"/>
                </a:lnTo>
                <a:lnTo>
                  <a:pt x="76" y="664"/>
                </a:lnTo>
                <a:lnTo>
                  <a:pt x="76" y="633"/>
                </a:lnTo>
                <a:lnTo>
                  <a:pt x="76" y="601"/>
                </a:lnTo>
                <a:lnTo>
                  <a:pt x="76" y="566"/>
                </a:lnTo>
                <a:lnTo>
                  <a:pt x="76" y="530"/>
                </a:lnTo>
                <a:lnTo>
                  <a:pt x="76" y="491"/>
                </a:lnTo>
                <a:lnTo>
                  <a:pt x="76" y="453"/>
                </a:lnTo>
                <a:lnTo>
                  <a:pt x="76" y="434"/>
                </a:lnTo>
                <a:lnTo>
                  <a:pt x="76" y="415"/>
                </a:lnTo>
                <a:lnTo>
                  <a:pt x="76" y="397"/>
                </a:lnTo>
                <a:lnTo>
                  <a:pt x="76" y="380"/>
                </a:lnTo>
                <a:lnTo>
                  <a:pt x="76" y="363"/>
                </a:lnTo>
                <a:lnTo>
                  <a:pt x="76" y="347"/>
                </a:lnTo>
                <a:lnTo>
                  <a:pt x="74" y="332"/>
                </a:lnTo>
                <a:lnTo>
                  <a:pt x="74" y="317"/>
                </a:lnTo>
                <a:lnTo>
                  <a:pt x="74" y="301"/>
                </a:lnTo>
                <a:lnTo>
                  <a:pt x="72" y="288"/>
                </a:lnTo>
                <a:lnTo>
                  <a:pt x="72" y="274"/>
                </a:lnTo>
                <a:lnTo>
                  <a:pt x="71" y="261"/>
                </a:lnTo>
                <a:lnTo>
                  <a:pt x="71" y="248"/>
                </a:lnTo>
                <a:lnTo>
                  <a:pt x="69" y="236"/>
                </a:lnTo>
                <a:lnTo>
                  <a:pt x="69" y="224"/>
                </a:lnTo>
                <a:lnTo>
                  <a:pt x="67" y="213"/>
                </a:lnTo>
                <a:lnTo>
                  <a:pt x="65" y="201"/>
                </a:lnTo>
                <a:lnTo>
                  <a:pt x="63" y="192"/>
                </a:lnTo>
                <a:lnTo>
                  <a:pt x="61" y="173"/>
                </a:lnTo>
                <a:lnTo>
                  <a:pt x="57" y="155"/>
                </a:lnTo>
                <a:lnTo>
                  <a:pt x="53" y="140"/>
                </a:lnTo>
                <a:lnTo>
                  <a:pt x="49" y="127"/>
                </a:lnTo>
                <a:lnTo>
                  <a:pt x="46" y="115"/>
                </a:lnTo>
                <a:lnTo>
                  <a:pt x="40" y="104"/>
                </a:lnTo>
                <a:lnTo>
                  <a:pt x="36" y="96"/>
                </a:lnTo>
                <a:lnTo>
                  <a:pt x="28" y="90"/>
                </a:lnTo>
                <a:lnTo>
                  <a:pt x="23" y="82"/>
                </a:lnTo>
                <a:lnTo>
                  <a:pt x="17" y="77"/>
                </a:lnTo>
                <a:lnTo>
                  <a:pt x="13" y="69"/>
                </a:lnTo>
                <a:lnTo>
                  <a:pt x="9" y="63"/>
                </a:lnTo>
                <a:lnTo>
                  <a:pt x="5" y="57"/>
                </a:lnTo>
                <a:lnTo>
                  <a:pt x="3" y="52"/>
                </a:lnTo>
                <a:lnTo>
                  <a:pt x="1" y="46"/>
                </a:lnTo>
                <a:lnTo>
                  <a:pt x="1" y="42"/>
                </a:lnTo>
                <a:lnTo>
                  <a:pt x="0" y="36"/>
                </a:lnTo>
                <a:lnTo>
                  <a:pt x="0" y="31"/>
                </a:lnTo>
                <a:lnTo>
                  <a:pt x="1" y="27"/>
                </a:lnTo>
                <a:lnTo>
                  <a:pt x="3" y="17"/>
                </a:lnTo>
                <a:lnTo>
                  <a:pt x="9" y="8"/>
                </a:lnTo>
                <a:lnTo>
                  <a:pt x="11" y="6"/>
                </a:lnTo>
                <a:lnTo>
                  <a:pt x="15" y="4"/>
                </a:lnTo>
                <a:lnTo>
                  <a:pt x="21" y="2"/>
                </a:lnTo>
                <a:lnTo>
                  <a:pt x="26" y="0"/>
                </a:lnTo>
                <a:lnTo>
                  <a:pt x="32" y="0"/>
                </a:lnTo>
                <a:lnTo>
                  <a:pt x="40" y="0"/>
                </a:lnTo>
                <a:lnTo>
                  <a:pt x="47" y="0"/>
                </a:lnTo>
                <a:lnTo>
                  <a:pt x="55" y="0"/>
                </a:lnTo>
                <a:lnTo>
                  <a:pt x="65" y="2"/>
                </a:lnTo>
                <a:lnTo>
                  <a:pt x="74" y="4"/>
                </a:lnTo>
                <a:lnTo>
                  <a:pt x="86" y="8"/>
                </a:lnTo>
                <a:lnTo>
                  <a:pt x="97" y="10"/>
                </a:lnTo>
                <a:lnTo>
                  <a:pt x="109" y="15"/>
                </a:lnTo>
                <a:lnTo>
                  <a:pt x="120" y="19"/>
                </a:lnTo>
                <a:lnTo>
                  <a:pt x="132" y="25"/>
                </a:lnTo>
                <a:lnTo>
                  <a:pt x="145" y="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6431040" y="3583080"/>
            <a:ext cx="190440" cy="1208160"/>
          </a:xfrm>
          <a:custGeom>
            <a:avLst/>
            <a:gdLst/>
            <a:ahLst/>
            <a:rect l="l" t="t" r="r" b="b"/>
            <a:pathLst>
              <a:path w="240" h="1523">
                <a:moveTo>
                  <a:pt x="8" y="8"/>
                </a:moveTo>
                <a:lnTo>
                  <a:pt x="19" y="4"/>
                </a:lnTo>
                <a:lnTo>
                  <a:pt x="31" y="0"/>
                </a:lnTo>
                <a:lnTo>
                  <a:pt x="37" y="0"/>
                </a:lnTo>
                <a:lnTo>
                  <a:pt x="44" y="0"/>
                </a:lnTo>
                <a:lnTo>
                  <a:pt x="52" y="0"/>
                </a:lnTo>
                <a:lnTo>
                  <a:pt x="60" y="0"/>
                </a:lnTo>
                <a:lnTo>
                  <a:pt x="67" y="2"/>
                </a:lnTo>
                <a:lnTo>
                  <a:pt x="75" y="4"/>
                </a:lnTo>
                <a:lnTo>
                  <a:pt x="83" y="8"/>
                </a:lnTo>
                <a:lnTo>
                  <a:pt x="92" y="10"/>
                </a:lnTo>
                <a:lnTo>
                  <a:pt x="102" y="16"/>
                </a:lnTo>
                <a:lnTo>
                  <a:pt x="112" y="20"/>
                </a:lnTo>
                <a:lnTo>
                  <a:pt x="121" y="25"/>
                </a:lnTo>
                <a:lnTo>
                  <a:pt x="131" y="33"/>
                </a:lnTo>
                <a:lnTo>
                  <a:pt x="140" y="41"/>
                </a:lnTo>
                <a:lnTo>
                  <a:pt x="150" y="47"/>
                </a:lnTo>
                <a:lnTo>
                  <a:pt x="160" y="54"/>
                </a:lnTo>
                <a:lnTo>
                  <a:pt x="167" y="60"/>
                </a:lnTo>
                <a:lnTo>
                  <a:pt x="175" y="66"/>
                </a:lnTo>
                <a:lnTo>
                  <a:pt x="183" y="72"/>
                </a:lnTo>
                <a:lnTo>
                  <a:pt x="188" y="77"/>
                </a:lnTo>
                <a:lnTo>
                  <a:pt x="194" y="83"/>
                </a:lnTo>
                <a:lnTo>
                  <a:pt x="200" y="89"/>
                </a:lnTo>
                <a:lnTo>
                  <a:pt x="206" y="93"/>
                </a:lnTo>
                <a:lnTo>
                  <a:pt x="213" y="102"/>
                </a:lnTo>
                <a:lnTo>
                  <a:pt x="221" y="112"/>
                </a:lnTo>
                <a:lnTo>
                  <a:pt x="227" y="123"/>
                </a:lnTo>
                <a:lnTo>
                  <a:pt x="229" y="127"/>
                </a:lnTo>
                <a:lnTo>
                  <a:pt x="229" y="131"/>
                </a:lnTo>
                <a:lnTo>
                  <a:pt x="231" y="139"/>
                </a:lnTo>
                <a:lnTo>
                  <a:pt x="231" y="144"/>
                </a:lnTo>
                <a:lnTo>
                  <a:pt x="232" y="154"/>
                </a:lnTo>
                <a:lnTo>
                  <a:pt x="232" y="164"/>
                </a:lnTo>
                <a:lnTo>
                  <a:pt x="234" y="173"/>
                </a:lnTo>
                <a:lnTo>
                  <a:pt x="234" y="185"/>
                </a:lnTo>
                <a:lnTo>
                  <a:pt x="234" y="196"/>
                </a:lnTo>
                <a:lnTo>
                  <a:pt x="236" y="210"/>
                </a:lnTo>
                <a:lnTo>
                  <a:pt x="236" y="225"/>
                </a:lnTo>
                <a:lnTo>
                  <a:pt x="236" y="240"/>
                </a:lnTo>
                <a:lnTo>
                  <a:pt x="238" y="258"/>
                </a:lnTo>
                <a:lnTo>
                  <a:pt x="238" y="275"/>
                </a:lnTo>
                <a:lnTo>
                  <a:pt x="238" y="294"/>
                </a:lnTo>
                <a:lnTo>
                  <a:pt x="238" y="313"/>
                </a:lnTo>
                <a:lnTo>
                  <a:pt x="238" y="334"/>
                </a:lnTo>
                <a:lnTo>
                  <a:pt x="240" y="356"/>
                </a:lnTo>
                <a:lnTo>
                  <a:pt x="240" y="379"/>
                </a:lnTo>
                <a:lnTo>
                  <a:pt x="240" y="404"/>
                </a:lnTo>
                <a:lnTo>
                  <a:pt x="240" y="429"/>
                </a:lnTo>
                <a:lnTo>
                  <a:pt x="240" y="453"/>
                </a:lnTo>
                <a:lnTo>
                  <a:pt x="240" y="480"/>
                </a:lnTo>
                <a:lnTo>
                  <a:pt x="240" y="509"/>
                </a:lnTo>
                <a:lnTo>
                  <a:pt x="240" y="538"/>
                </a:lnTo>
                <a:lnTo>
                  <a:pt x="240" y="569"/>
                </a:lnTo>
                <a:lnTo>
                  <a:pt x="240" y="599"/>
                </a:lnTo>
                <a:lnTo>
                  <a:pt x="240" y="632"/>
                </a:lnTo>
                <a:lnTo>
                  <a:pt x="240" y="665"/>
                </a:lnTo>
                <a:lnTo>
                  <a:pt x="240" y="699"/>
                </a:lnTo>
                <a:lnTo>
                  <a:pt x="240" y="736"/>
                </a:lnTo>
                <a:lnTo>
                  <a:pt x="240" y="772"/>
                </a:lnTo>
                <a:lnTo>
                  <a:pt x="240" y="809"/>
                </a:lnTo>
                <a:lnTo>
                  <a:pt x="238" y="843"/>
                </a:lnTo>
                <a:lnTo>
                  <a:pt x="236" y="878"/>
                </a:lnTo>
                <a:lnTo>
                  <a:pt x="236" y="912"/>
                </a:lnTo>
                <a:lnTo>
                  <a:pt x="234" y="945"/>
                </a:lnTo>
                <a:lnTo>
                  <a:pt x="232" y="976"/>
                </a:lnTo>
                <a:lnTo>
                  <a:pt x="232" y="1006"/>
                </a:lnTo>
                <a:lnTo>
                  <a:pt x="231" y="1037"/>
                </a:lnTo>
                <a:lnTo>
                  <a:pt x="229" y="1064"/>
                </a:lnTo>
                <a:lnTo>
                  <a:pt x="229" y="1093"/>
                </a:lnTo>
                <a:lnTo>
                  <a:pt x="227" y="1120"/>
                </a:lnTo>
                <a:lnTo>
                  <a:pt x="225" y="1144"/>
                </a:lnTo>
                <a:lnTo>
                  <a:pt x="225" y="1169"/>
                </a:lnTo>
                <a:lnTo>
                  <a:pt x="223" y="1192"/>
                </a:lnTo>
                <a:lnTo>
                  <a:pt x="221" y="1216"/>
                </a:lnTo>
                <a:lnTo>
                  <a:pt x="221" y="1237"/>
                </a:lnTo>
                <a:lnTo>
                  <a:pt x="219" y="1258"/>
                </a:lnTo>
                <a:lnTo>
                  <a:pt x="217" y="1279"/>
                </a:lnTo>
                <a:lnTo>
                  <a:pt x="215" y="1296"/>
                </a:lnTo>
                <a:lnTo>
                  <a:pt x="215" y="1313"/>
                </a:lnTo>
                <a:lnTo>
                  <a:pt x="213" y="1331"/>
                </a:lnTo>
                <a:lnTo>
                  <a:pt x="211" y="1346"/>
                </a:lnTo>
                <a:lnTo>
                  <a:pt x="211" y="1361"/>
                </a:lnTo>
                <a:lnTo>
                  <a:pt x="209" y="1375"/>
                </a:lnTo>
                <a:lnTo>
                  <a:pt x="208" y="1386"/>
                </a:lnTo>
                <a:lnTo>
                  <a:pt x="208" y="1398"/>
                </a:lnTo>
                <a:lnTo>
                  <a:pt x="206" y="1409"/>
                </a:lnTo>
                <a:lnTo>
                  <a:pt x="204" y="1419"/>
                </a:lnTo>
                <a:lnTo>
                  <a:pt x="204" y="1427"/>
                </a:lnTo>
                <a:lnTo>
                  <a:pt x="202" y="1434"/>
                </a:lnTo>
                <a:lnTo>
                  <a:pt x="200" y="1440"/>
                </a:lnTo>
                <a:lnTo>
                  <a:pt x="200" y="1446"/>
                </a:lnTo>
                <a:lnTo>
                  <a:pt x="196" y="1455"/>
                </a:lnTo>
                <a:lnTo>
                  <a:pt x="194" y="1463"/>
                </a:lnTo>
                <a:lnTo>
                  <a:pt x="190" y="1473"/>
                </a:lnTo>
                <a:lnTo>
                  <a:pt x="186" y="1478"/>
                </a:lnTo>
                <a:lnTo>
                  <a:pt x="184" y="1486"/>
                </a:lnTo>
                <a:lnTo>
                  <a:pt x="181" y="1492"/>
                </a:lnTo>
                <a:lnTo>
                  <a:pt x="177" y="1498"/>
                </a:lnTo>
                <a:lnTo>
                  <a:pt x="173" y="1503"/>
                </a:lnTo>
                <a:lnTo>
                  <a:pt x="169" y="1507"/>
                </a:lnTo>
                <a:lnTo>
                  <a:pt x="165" y="1511"/>
                </a:lnTo>
                <a:lnTo>
                  <a:pt x="161" y="1515"/>
                </a:lnTo>
                <a:lnTo>
                  <a:pt x="158" y="1517"/>
                </a:lnTo>
                <a:lnTo>
                  <a:pt x="154" y="1519"/>
                </a:lnTo>
                <a:lnTo>
                  <a:pt x="150" y="1521"/>
                </a:lnTo>
                <a:lnTo>
                  <a:pt x="148" y="1523"/>
                </a:lnTo>
                <a:lnTo>
                  <a:pt x="144" y="1523"/>
                </a:lnTo>
                <a:lnTo>
                  <a:pt x="142" y="1523"/>
                </a:lnTo>
                <a:lnTo>
                  <a:pt x="138" y="1521"/>
                </a:lnTo>
                <a:lnTo>
                  <a:pt x="135" y="1519"/>
                </a:lnTo>
                <a:lnTo>
                  <a:pt x="133" y="1517"/>
                </a:lnTo>
                <a:lnTo>
                  <a:pt x="129" y="1515"/>
                </a:lnTo>
                <a:lnTo>
                  <a:pt x="123" y="1511"/>
                </a:lnTo>
                <a:lnTo>
                  <a:pt x="119" y="1507"/>
                </a:lnTo>
                <a:lnTo>
                  <a:pt x="115" y="1502"/>
                </a:lnTo>
                <a:lnTo>
                  <a:pt x="112" y="1496"/>
                </a:lnTo>
                <a:lnTo>
                  <a:pt x="106" y="1490"/>
                </a:lnTo>
                <a:lnTo>
                  <a:pt x="102" y="1482"/>
                </a:lnTo>
                <a:lnTo>
                  <a:pt x="96" y="1475"/>
                </a:lnTo>
                <a:lnTo>
                  <a:pt x="90" y="1465"/>
                </a:lnTo>
                <a:lnTo>
                  <a:pt x="87" y="1455"/>
                </a:lnTo>
                <a:lnTo>
                  <a:pt x="81" y="1446"/>
                </a:lnTo>
                <a:lnTo>
                  <a:pt x="77" y="1434"/>
                </a:lnTo>
                <a:lnTo>
                  <a:pt x="71" y="1421"/>
                </a:lnTo>
                <a:lnTo>
                  <a:pt x="67" y="1411"/>
                </a:lnTo>
                <a:lnTo>
                  <a:pt x="62" y="1400"/>
                </a:lnTo>
                <a:lnTo>
                  <a:pt x="58" y="1390"/>
                </a:lnTo>
                <a:lnTo>
                  <a:pt x="52" y="1371"/>
                </a:lnTo>
                <a:lnTo>
                  <a:pt x="46" y="1354"/>
                </a:lnTo>
                <a:lnTo>
                  <a:pt x="41" y="1338"/>
                </a:lnTo>
                <a:lnTo>
                  <a:pt x="39" y="1323"/>
                </a:lnTo>
                <a:lnTo>
                  <a:pt x="37" y="1308"/>
                </a:lnTo>
                <a:lnTo>
                  <a:pt x="35" y="1294"/>
                </a:lnTo>
                <a:lnTo>
                  <a:pt x="35" y="1288"/>
                </a:lnTo>
                <a:lnTo>
                  <a:pt x="37" y="1283"/>
                </a:lnTo>
                <a:lnTo>
                  <a:pt x="37" y="1275"/>
                </a:lnTo>
                <a:lnTo>
                  <a:pt x="39" y="1267"/>
                </a:lnTo>
                <a:lnTo>
                  <a:pt x="39" y="1258"/>
                </a:lnTo>
                <a:lnTo>
                  <a:pt x="41" y="1248"/>
                </a:lnTo>
                <a:lnTo>
                  <a:pt x="42" y="1237"/>
                </a:lnTo>
                <a:lnTo>
                  <a:pt x="44" y="1225"/>
                </a:lnTo>
                <a:lnTo>
                  <a:pt x="46" y="1212"/>
                </a:lnTo>
                <a:lnTo>
                  <a:pt x="48" y="1198"/>
                </a:lnTo>
                <a:lnTo>
                  <a:pt x="50" y="1183"/>
                </a:lnTo>
                <a:lnTo>
                  <a:pt x="52" y="1166"/>
                </a:lnTo>
                <a:lnTo>
                  <a:pt x="56" y="1148"/>
                </a:lnTo>
                <a:lnTo>
                  <a:pt x="58" y="1129"/>
                </a:lnTo>
                <a:lnTo>
                  <a:pt x="60" y="1110"/>
                </a:lnTo>
                <a:lnTo>
                  <a:pt x="64" y="1089"/>
                </a:lnTo>
                <a:lnTo>
                  <a:pt x="64" y="1079"/>
                </a:lnTo>
                <a:lnTo>
                  <a:pt x="65" y="1070"/>
                </a:lnTo>
                <a:lnTo>
                  <a:pt x="65" y="1058"/>
                </a:lnTo>
                <a:lnTo>
                  <a:pt x="67" y="1047"/>
                </a:lnTo>
                <a:lnTo>
                  <a:pt x="67" y="1035"/>
                </a:lnTo>
                <a:lnTo>
                  <a:pt x="69" y="1024"/>
                </a:lnTo>
                <a:lnTo>
                  <a:pt x="69" y="1010"/>
                </a:lnTo>
                <a:lnTo>
                  <a:pt x="71" y="997"/>
                </a:lnTo>
                <a:lnTo>
                  <a:pt x="71" y="983"/>
                </a:lnTo>
                <a:lnTo>
                  <a:pt x="71" y="968"/>
                </a:lnTo>
                <a:lnTo>
                  <a:pt x="73" y="953"/>
                </a:lnTo>
                <a:lnTo>
                  <a:pt x="73" y="937"/>
                </a:lnTo>
                <a:lnTo>
                  <a:pt x="73" y="922"/>
                </a:lnTo>
                <a:lnTo>
                  <a:pt x="73" y="906"/>
                </a:lnTo>
                <a:lnTo>
                  <a:pt x="73" y="889"/>
                </a:lnTo>
                <a:lnTo>
                  <a:pt x="75" y="872"/>
                </a:lnTo>
                <a:lnTo>
                  <a:pt x="75" y="853"/>
                </a:lnTo>
                <a:lnTo>
                  <a:pt x="75" y="835"/>
                </a:lnTo>
                <a:lnTo>
                  <a:pt x="75" y="816"/>
                </a:lnTo>
                <a:lnTo>
                  <a:pt x="75" y="797"/>
                </a:lnTo>
                <a:lnTo>
                  <a:pt x="75" y="757"/>
                </a:lnTo>
                <a:lnTo>
                  <a:pt x="75" y="715"/>
                </a:lnTo>
                <a:lnTo>
                  <a:pt x="75" y="672"/>
                </a:lnTo>
                <a:lnTo>
                  <a:pt x="77" y="626"/>
                </a:lnTo>
                <a:lnTo>
                  <a:pt x="77" y="578"/>
                </a:lnTo>
                <a:lnTo>
                  <a:pt x="77" y="530"/>
                </a:lnTo>
                <a:lnTo>
                  <a:pt x="75" y="505"/>
                </a:lnTo>
                <a:lnTo>
                  <a:pt x="75" y="480"/>
                </a:lnTo>
                <a:lnTo>
                  <a:pt x="75" y="457"/>
                </a:lnTo>
                <a:lnTo>
                  <a:pt x="75" y="434"/>
                </a:lnTo>
                <a:lnTo>
                  <a:pt x="75" y="413"/>
                </a:lnTo>
                <a:lnTo>
                  <a:pt x="75" y="392"/>
                </a:lnTo>
                <a:lnTo>
                  <a:pt x="73" y="373"/>
                </a:lnTo>
                <a:lnTo>
                  <a:pt x="73" y="352"/>
                </a:lnTo>
                <a:lnTo>
                  <a:pt x="73" y="334"/>
                </a:lnTo>
                <a:lnTo>
                  <a:pt x="71" y="315"/>
                </a:lnTo>
                <a:lnTo>
                  <a:pt x="71" y="298"/>
                </a:lnTo>
                <a:lnTo>
                  <a:pt x="69" y="281"/>
                </a:lnTo>
                <a:lnTo>
                  <a:pt x="69" y="265"/>
                </a:lnTo>
                <a:lnTo>
                  <a:pt x="67" y="250"/>
                </a:lnTo>
                <a:lnTo>
                  <a:pt x="67" y="235"/>
                </a:lnTo>
                <a:lnTo>
                  <a:pt x="65" y="221"/>
                </a:lnTo>
                <a:lnTo>
                  <a:pt x="64" y="208"/>
                </a:lnTo>
                <a:lnTo>
                  <a:pt x="64" y="194"/>
                </a:lnTo>
                <a:lnTo>
                  <a:pt x="62" y="183"/>
                </a:lnTo>
                <a:lnTo>
                  <a:pt x="60" y="171"/>
                </a:lnTo>
                <a:lnTo>
                  <a:pt x="58" y="160"/>
                </a:lnTo>
                <a:lnTo>
                  <a:pt x="56" y="150"/>
                </a:lnTo>
                <a:lnTo>
                  <a:pt x="54" y="141"/>
                </a:lnTo>
                <a:lnTo>
                  <a:pt x="52" y="133"/>
                </a:lnTo>
                <a:lnTo>
                  <a:pt x="50" y="123"/>
                </a:lnTo>
                <a:lnTo>
                  <a:pt x="48" y="116"/>
                </a:lnTo>
                <a:lnTo>
                  <a:pt x="46" y="110"/>
                </a:lnTo>
                <a:lnTo>
                  <a:pt x="44" y="104"/>
                </a:lnTo>
                <a:lnTo>
                  <a:pt x="42" y="98"/>
                </a:lnTo>
                <a:lnTo>
                  <a:pt x="41" y="93"/>
                </a:lnTo>
                <a:lnTo>
                  <a:pt x="39" y="89"/>
                </a:lnTo>
                <a:lnTo>
                  <a:pt x="35" y="85"/>
                </a:lnTo>
                <a:lnTo>
                  <a:pt x="29" y="77"/>
                </a:lnTo>
                <a:lnTo>
                  <a:pt x="21" y="70"/>
                </a:lnTo>
                <a:lnTo>
                  <a:pt x="16" y="64"/>
                </a:lnTo>
                <a:lnTo>
                  <a:pt x="12" y="58"/>
                </a:lnTo>
                <a:lnTo>
                  <a:pt x="8" y="52"/>
                </a:lnTo>
                <a:lnTo>
                  <a:pt x="6" y="47"/>
                </a:lnTo>
                <a:lnTo>
                  <a:pt x="2" y="41"/>
                </a:lnTo>
                <a:lnTo>
                  <a:pt x="0" y="37"/>
                </a:lnTo>
                <a:lnTo>
                  <a:pt x="0" y="31"/>
                </a:lnTo>
                <a:lnTo>
                  <a:pt x="0" y="27"/>
                </a:lnTo>
                <a:lnTo>
                  <a:pt x="0" y="24"/>
                </a:lnTo>
                <a:lnTo>
                  <a:pt x="0" y="20"/>
                </a:lnTo>
                <a:lnTo>
                  <a:pt x="2" y="16"/>
                </a:lnTo>
                <a:lnTo>
                  <a:pt x="4" y="14"/>
                </a:lnTo>
                <a:lnTo>
                  <a:pt x="8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7"/>
          <p:cNvSpPr/>
          <p:nvPr/>
        </p:nvSpPr>
        <p:spPr>
          <a:xfrm>
            <a:off x="5619600" y="3635280"/>
            <a:ext cx="592200" cy="1168560"/>
          </a:xfrm>
          <a:custGeom>
            <a:avLst/>
            <a:gdLst/>
            <a:ahLst/>
            <a:rect l="l" t="t" r="r" b="b"/>
            <a:pathLst>
              <a:path w="747" h="1472">
                <a:moveTo>
                  <a:pt x="522" y="82"/>
                </a:moveTo>
                <a:lnTo>
                  <a:pt x="516" y="69"/>
                </a:lnTo>
                <a:lnTo>
                  <a:pt x="513" y="55"/>
                </a:lnTo>
                <a:lnTo>
                  <a:pt x="509" y="44"/>
                </a:lnTo>
                <a:lnTo>
                  <a:pt x="505" y="34"/>
                </a:lnTo>
                <a:lnTo>
                  <a:pt x="503" y="25"/>
                </a:lnTo>
                <a:lnTo>
                  <a:pt x="503" y="17"/>
                </a:lnTo>
                <a:lnTo>
                  <a:pt x="503" y="13"/>
                </a:lnTo>
                <a:lnTo>
                  <a:pt x="505" y="11"/>
                </a:lnTo>
                <a:lnTo>
                  <a:pt x="507" y="7"/>
                </a:lnTo>
                <a:lnTo>
                  <a:pt x="509" y="6"/>
                </a:lnTo>
                <a:lnTo>
                  <a:pt x="511" y="4"/>
                </a:lnTo>
                <a:lnTo>
                  <a:pt x="514" y="2"/>
                </a:lnTo>
                <a:lnTo>
                  <a:pt x="518" y="2"/>
                </a:lnTo>
                <a:lnTo>
                  <a:pt x="522" y="0"/>
                </a:lnTo>
                <a:lnTo>
                  <a:pt x="526" y="0"/>
                </a:lnTo>
                <a:lnTo>
                  <a:pt x="532" y="2"/>
                </a:lnTo>
                <a:lnTo>
                  <a:pt x="538" y="2"/>
                </a:lnTo>
                <a:lnTo>
                  <a:pt x="543" y="4"/>
                </a:lnTo>
                <a:lnTo>
                  <a:pt x="549" y="6"/>
                </a:lnTo>
                <a:lnTo>
                  <a:pt x="557" y="7"/>
                </a:lnTo>
                <a:lnTo>
                  <a:pt x="564" y="11"/>
                </a:lnTo>
                <a:lnTo>
                  <a:pt x="574" y="15"/>
                </a:lnTo>
                <a:lnTo>
                  <a:pt x="584" y="17"/>
                </a:lnTo>
                <a:lnTo>
                  <a:pt x="595" y="23"/>
                </a:lnTo>
                <a:lnTo>
                  <a:pt x="607" y="27"/>
                </a:lnTo>
                <a:lnTo>
                  <a:pt x="618" y="30"/>
                </a:lnTo>
                <a:lnTo>
                  <a:pt x="632" y="38"/>
                </a:lnTo>
                <a:lnTo>
                  <a:pt x="643" y="46"/>
                </a:lnTo>
                <a:lnTo>
                  <a:pt x="655" y="52"/>
                </a:lnTo>
                <a:lnTo>
                  <a:pt x="664" y="57"/>
                </a:lnTo>
                <a:lnTo>
                  <a:pt x="674" y="63"/>
                </a:lnTo>
                <a:lnTo>
                  <a:pt x="683" y="69"/>
                </a:lnTo>
                <a:lnTo>
                  <a:pt x="693" y="75"/>
                </a:lnTo>
                <a:lnTo>
                  <a:pt x="701" y="80"/>
                </a:lnTo>
                <a:lnTo>
                  <a:pt x="708" y="86"/>
                </a:lnTo>
                <a:lnTo>
                  <a:pt x="714" y="90"/>
                </a:lnTo>
                <a:lnTo>
                  <a:pt x="720" y="96"/>
                </a:lnTo>
                <a:lnTo>
                  <a:pt x="726" y="101"/>
                </a:lnTo>
                <a:lnTo>
                  <a:pt x="731" y="105"/>
                </a:lnTo>
                <a:lnTo>
                  <a:pt x="735" y="111"/>
                </a:lnTo>
                <a:lnTo>
                  <a:pt x="739" y="115"/>
                </a:lnTo>
                <a:lnTo>
                  <a:pt x="741" y="121"/>
                </a:lnTo>
                <a:lnTo>
                  <a:pt x="743" y="125"/>
                </a:lnTo>
                <a:lnTo>
                  <a:pt x="745" y="132"/>
                </a:lnTo>
                <a:lnTo>
                  <a:pt x="747" y="142"/>
                </a:lnTo>
                <a:lnTo>
                  <a:pt x="747" y="151"/>
                </a:lnTo>
                <a:lnTo>
                  <a:pt x="747" y="163"/>
                </a:lnTo>
                <a:lnTo>
                  <a:pt x="747" y="176"/>
                </a:lnTo>
                <a:lnTo>
                  <a:pt x="745" y="192"/>
                </a:lnTo>
                <a:lnTo>
                  <a:pt x="745" y="207"/>
                </a:lnTo>
                <a:lnTo>
                  <a:pt x="743" y="226"/>
                </a:lnTo>
                <a:lnTo>
                  <a:pt x="741" y="245"/>
                </a:lnTo>
                <a:lnTo>
                  <a:pt x="739" y="267"/>
                </a:lnTo>
                <a:lnTo>
                  <a:pt x="737" y="290"/>
                </a:lnTo>
                <a:lnTo>
                  <a:pt x="735" y="315"/>
                </a:lnTo>
                <a:lnTo>
                  <a:pt x="733" y="341"/>
                </a:lnTo>
                <a:lnTo>
                  <a:pt x="729" y="370"/>
                </a:lnTo>
                <a:lnTo>
                  <a:pt x="728" y="401"/>
                </a:lnTo>
                <a:lnTo>
                  <a:pt x="724" y="432"/>
                </a:lnTo>
                <a:lnTo>
                  <a:pt x="720" y="462"/>
                </a:lnTo>
                <a:lnTo>
                  <a:pt x="716" y="493"/>
                </a:lnTo>
                <a:lnTo>
                  <a:pt x="710" y="524"/>
                </a:lnTo>
                <a:lnTo>
                  <a:pt x="703" y="554"/>
                </a:lnTo>
                <a:lnTo>
                  <a:pt x="695" y="585"/>
                </a:lnTo>
                <a:lnTo>
                  <a:pt x="687" y="618"/>
                </a:lnTo>
                <a:lnTo>
                  <a:pt x="678" y="649"/>
                </a:lnTo>
                <a:lnTo>
                  <a:pt x="668" y="679"/>
                </a:lnTo>
                <a:lnTo>
                  <a:pt x="657" y="710"/>
                </a:lnTo>
                <a:lnTo>
                  <a:pt x="645" y="741"/>
                </a:lnTo>
                <a:lnTo>
                  <a:pt x="633" y="771"/>
                </a:lnTo>
                <a:lnTo>
                  <a:pt x="620" y="802"/>
                </a:lnTo>
                <a:lnTo>
                  <a:pt x="607" y="835"/>
                </a:lnTo>
                <a:lnTo>
                  <a:pt x="591" y="865"/>
                </a:lnTo>
                <a:lnTo>
                  <a:pt x="578" y="896"/>
                </a:lnTo>
                <a:lnTo>
                  <a:pt x="561" y="927"/>
                </a:lnTo>
                <a:lnTo>
                  <a:pt x="545" y="958"/>
                </a:lnTo>
                <a:lnTo>
                  <a:pt x="528" y="986"/>
                </a:lnTo>
                <a:lnTo>
                  <a:pt x="511" y="1015"/>
                </a:lnTo>
                <a:lnTo>
                  <a:pt x="491" y="1044"/>
                </a:lnTo>
                <a:lnTo>
                  <a:pt x="472" y="1071"/>
                </a:lnTo>
                <a:lnTo>
                  <a:pt x="453" y="1098"/>
                </a:lnTo>
                <a:lnTo>
                  <a:pt x="432" y="1125"/>
                </a:lnTo>
                <a:lnTo>
                  <a:pt x="409" y="1151"/>
                </a:lnTo>
                <a:lnTo>
                  <a:pt x="388" y="1176"/>
                </a:lnTo>
                <a:lnTo>
                  <a:pt x="365" y="1201"/>
                </a:lnTo>
                <a:lnTo>
                  <a:pt x="340" y="1224"/>
                </a:lnTo>
                <a:lnTo>
                  <a:pt x="315" y="1249"/>
                </a:lnTo>
                <a:lnTo>
                  <a:pt x="290" y="1272"/>
                </a:lnTo>
                <a:lnTo>
                  <a:pt x="263" y="1295"/>
                </a:lnTo>
                <a:lnTo>
                  <a:pt x="234" y="1317"/>
                </a:lnTo>
                <a:lnTo>
                  <a:pt x="207" y="1338"/>
                </a:lnTo>
                <a:lnTo>
                  <a:pt x="182" y="1357"/>
                </a:lnTo>
                <a:lnTo>
                  <a:pt x="159" y="1374"/>
                </a:lnTo>
                <a:lnTo>
                  <a:pt x="136" y="1391"/>
                </a:lnTo>
                <a:lnTo>
                  <a:pt x="117" y="1407"/>
                </a:lnTo>
                <a:lnTo>
                  <a:pt x="98" y="1418"/>
                </a:lnTo>
                <a:lnTo>
                  <a:pt x="83" y="1432"/>
                </a:lnTo>
                <a:lnTo>
                  <a:pt x="67" y="1441"/>
                </a:lnTo>
                <a:lnTo>
                  <a:pt x="54" y="1449"/>
                </a:lnTo>
                <a:lnTo>
                  <a:pt x="42" y="1457"/>
                </a:lnTo>
                <a:lnTo>
                  <a:pt x="33" y="1462"/>
                </a:lnTo>
                <a:lnTo>
                  <a:pt x="23" y="1466"/>
                </a:lnTo>
                <a:lnTo>
                  <a:pt x="15" y="1470"/>
                </a:lnTo>
                <a:lnTo>
                  <a:pt x="10" y="1472"/>
                </a:lnTo>
                <a:lnTo>
                  <a:pt x="6" y="1470"/>
                </a:lnTo>
                <a:lnTo>
                  <a:pt x="2" y="1470"/>
                </a:lnTo>
                <a:lnTo>
                  <a:pt x="0" y="1466"/>
                </a:lnTo>
                <a:lnTo>
                  <a:pt x="0" y="1460"/>
                </a:lnTo>
                <a:lnTo>
                  <a:pt x="2" y="1455"/>
                </a:lnTo>
                <a:lnTo>
                  <a:pt x="4" y="1449"/>
                </a:lnTo>
                <a:lnTo>
                  <a:pt x="10" y="1439"/>
                </a:lnTo>
                <a:lnTo>
                  <a:pt x="15" y="1430"/>
                </a:lnTo>
                <a:lnTo>
                  <a:pt x="23" y="1418"/>
                </a:lnTo>
                <a:lnTo>
                  <a:pt x="31" y="1405"/>
                </a:lnTo>
                <a:lnTo>
                  <a:pt x="42" y="1391"/>
                </a:lnTo>
                <a:lnTo>
                  <a:pt x="54" y="1378"/>
                </a:lnTo>
                <a:lnTo>
                  <a:pt x="67" y="1361"/>
                </a:lnTo>
                <a:lnTo>
                  <a:pt x="81" y="1343"/>
                </a:lnTo>
                <a:lnTo>
                  <a:pt x="98" y="1326"/>
                </a:lnTo>
                <a:lnTo>
                  <a:pt x="113" y="1307"/>
                </a:lnTo>
                <a:lnTo>
                  <a:pt x="133" y="1288"/>
                </a:lnTo>
                <a:lnTo>
                  <a:pt x="152" y="1267"/>
                </a:lnTo>
                <a:lnTo>
                  <a:pt x="173" y="1244"/>
                </a:lnTo>
                <a:lnTo>
                  <a:pt x="192" y="1222"/>
                </a:lnTo>
                <a:lnTo>
                  <a:pt x="211" y="1201"/>
                </a:lnTo>
                <a:lnTo>
                  <a:pt x="228" y="1178"/>
                </a:lnTo>
                <a:lnTo>
                  <a:pt x="248" y="1157"/>
                </a:lnTo>
                <a:lnTo>
                  <a:pt x="265" y="1136"/>
                </a:lnTo>
                <a:lnTo>
                  <a:pt x="282" y="1113"/>
                </a:lnTo>
                <a:lnTo>
                  <a:pt x="298" y="1092"/>
                </a:lnTo>
                <a:lnTo>
                  <a:pt x="328" y="1048"/>
                </a:lnTo>
                <a:lnTo>
                  <a:pt x="359" y="1002"/>
                </a:lnTo>
                <a:lnTo>
                  <a:pt x="386" y="956"/>
                </a:lnTo>
                <a:lnTo>
                  <a:pt x="413" y="910"/>
                </a:lnTo>
                <a:lnTo>
                  <a:pt x="432" y="865"/>
                </a:lnTo>
                <a:lnTo>
                  <a:pt x="451" y="821"/>
                </a:lnTo>
                <a:lnTo>
                  <a:pt x="468" y="775"/>
                </a:lnTo>
                <a:lnTo>
                  <a:pt x="484" y="729"/>
                </a:lnTo>
                <a:lnTo>
                  <a:pt x="499" y="683"/>
                </a:lnTo>
                <a:lnTo>
                  <a:pt x="513" y="635"/>
                </a:lnTo>
                <a:lnTo>
                  <a:pt x="524" y="587"/>
                </a:lnTo>
                <a:lnTo>
                  <a:pt x="536" y="541"/>
                </a:lnTo>
                <a:lnTo>
                  <a:pt x="541" y="516"/>
                </a:lnTo>
                <a:lnTo>
                  <a:pt x="545" y="493"/>
                </a:lnTo>
                <a:lnTo>
                  <a:pt x="549" y="472"/>
                </a:lnTo>
                <a:lnTo>
                  <a:pt x="553" y="449"/>
                </a:lnTo>
                <a:lnTo>
                  <a:pt x="557" y="428"/>
                </a:lnTo>
                <a:lnTo>
                  <a:pt x="561" y="407"/>
                </a:lnTo>
                <a:lnTo>
                  <a:pt x="564" y="387"/>
                </a:lnTo>
                <a:lnTo>
                  <a:pt x="566" y="368"/>
                </a:lnTo>
                <a:lnTo>
                  <a:pt x="568" y="349"/>
                </a:lnTo>
                <a:lnTo>
                  <a:pt x="570" y="332"/>
                </a:lnTo>
                <a:lnTo>
                  <a:pt x="572" y="313"/>
                </a:lnTo>
                <a:lnTo>
                  <a:pt x="574" y="297"/>
                </a:lnTo>
                <a:lnTo>
                  <a:pt x="576" y="280"/>
                </a:lnTo>
                <a:lnTo>
                  <a:pt x="576" y="265"/>
                </a:lnTo>
                <a:lnTo>
                  <a:pt x="576" y="249"/>
                </a:lnTo>
                <a:lnTo>
                  <a:pt x="578" y="234"/>
                </a:lnTo>
                <a:lnTo>
                  <a:pt x="572" y="211"/>
                </a:lnTo>
                <a:lnTo>
                  <a:pt x="566" y="190"/>
                </a:lnTo>
                <a:lnTo>
                  <a:pt x="561" y="169"/>
                </a:lnTo>
                <a:lnTo>
                  <a:pt x="555" y="149"/>
                </a:lnTo>
                <a:lnTo>
                  <a:pt x="547" y="130"/>
                </a:lnTo>
                <a:lnTo>
                  <a:pt x="539" y="113"/>
                </a:lnTo>
                <a:lnTo>
                  <a:pt x="532" y="98"/>
                </a:lnTo>
                <a:lnTo>
                  <a:pt x="522" y="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8"/>
          <p:cNvSpPr/>
          <p:nvPr/>
        </p:nvSpPr>
        <p:spPr>
          <a:xfrm>
            <a:off x="5437080" y="3811680"/>
            <a:ext cx="1544760" cy="303120"/>
          </a:xfrm>
          <a:custGeom>
            <a:avLst/>
            <a:gdLst/>
            <a:ahLst/>
            <a:rect l="l" t="t" r="r" b="b"/>
            <a:pathLst>
              <a:path w="1946" h="382">
                <a:moveTo>
                  <a:pt x="67" y="331"/>
                </a:moveTo>
                <a:lnTo>
                  <a:pt x="54" y="317"/>
                </a:lnTo>
                <a:lnTo>
                  <a:pt x="40" y="302"/>
                </a:lnTo>
                <a:lnTo>
                  <a:pt x="29" y="288"/>
                </a:lnTo>
                <a:lnTo>
                  <a:pt x="17" y="277"/>
                </a:lnTo>
                <a:lnTo>
                  <a:pt x="13" y="271"/>
                </a:lnTo>
                <a:lnTo>
                  <a:pt x="9" y="265"/>
                </a:lnTo>
                <a:lnTo>
                  <a:pt x="7" y="260"/>
                </a:lnTo>
                <a:lnTo>
                  <a:pt x="4" y="256"/>
                </a:lnTo>
                <a:lnTo>
                  <a:pt x="2" y="252"/>
                </a:lnTo>
                <a:lnTo>
                  <a:pt x="0" y="248"/>
                </a:lnTo>
                <a:lnTo>
                  <a:pt x="0" y="244"/>
                </a:lnTo>
                <a:lnTo>
                  <a:pt x="0" y="242"/>
                </a:lnTo>
                <a:lnTo>
                  <a:pt x="15" y="240"/>
                </a:lnTo>
                <a:lnTo>
                  <a:pt x="34" y="240"/>
                </a:lnTo>
                <a:lnTo>
                  <a:pt x="54" y="240"/>
                </a:lnTo>
                <a:lnTo>
                  <a:pt x="73" y="240"/>
                </a:lnTo>
                <a:lnTo>
                  <a:pt x="94" y="238"/>
                </a:lnTo>
                <a:lnTo>
                  <a:pt x="115" y="237"/>
                </a:lnTo>
                <a:lnTo>
                  <a:pt x="138" y="237"/>
                </a:lnTo>
                <a:lnTo>
                  <a:pt x="161" y="235"/>
                </a:lnTo>
                <a:lnTo>
                  <a:pt x="186" y="233"/>
                </a:lnTo>
                <a:lnTo>
                  <a:pt x="211" y="231"/>
                </a:lnTo>
                <a:lnTo>
                  <a:pt x="238" y="227"/>
                </a:lnTo>
                <a:lnTo>
                  <a:pt x="265" y="225"/>
                </a:lnTo>
                <a:lnTo>
                  <a:pt x="292" y="223"/>
                </a:lnTo>
                <a:lnTo>
                  <a:pt x="322" y="219"/>
                </a:lnTo>
                <a:lnTo>
                  <a:pt x="351" y="215"/>
                </a:lnTo>
                <a:lnTo>
                  <a:pt x="382" y="212"/>
                </a:lnTo>
                <a:lnTo>
                  <a:pt x="414" y="208"/>
                </a:lnTo>
                <a:lnTo>
                  <a:pt x="447" y="204"/>
                </a:lnTo>
                <a:lnTo>
                  <a:pt x="482" y="200"/>
                </a:lnTo>
                <a:lnTo>
                  <a:pt x="516" y="194"/>
                </a:lnTo>
                <a:lnTo>
                  <a:pt x="553" y="189"/>
                </a:lnTo>
                <a:lnTo>
                  <a:pt x="589" y="185"/>
                </a:lnTo>
                <a:lnTo>
                  <a:pt x="627" y="179"/>
                </a:lnTo>
                <a:lnTo>
                  <a:pt x="666" y="173"/>
                </a:lnTo>
                <a:lnTo>
                  <a:pt x="706" y="165"/>
                </a:lnTo>
                <a:lnTo>
                  <a:pt x="746" y="160"/>
                </a:lnTo>
                <a:lnTo>
                  <a:pt x="789" y="152"/>
                </a:lnTo>
                <a:lnTo>
                  <a:pt x="831" y="146"/>
                </a:lnTo>
                <a:lnTo>
                  <a:pt x="875" y="139"/>
                </a:lnTo>
                <a:lnTo>
                  <a:pt x="919" y="131"/>
                </a:lnTo>
                <a:lnTo>
                  <a:pt x="965" y="123"/>
                </a:lnTo>
                <a:lnTo>
                  <a:pt x="1013" y="114"/>
                </a:lnTo>
                <a:lnTo>
                  <a:pt x="1057" y="108"/>
                </a:lnTo>
                <a:lnTo>
                  <a:pt x="1102" y="100"/>
                </a:lnTo>
                <a:lnTo>
                  <a:pt x="1146" y="93"/>
                </a:lnTo>
                <a:lnTo>
                  <a:pt x="1186" y="87"/>
                </a:lnTo>
                <a:lnTo>
                  <a:pt x="1228" y="81"/>
                </a:lnTo>
                <a:lnTo>
                  <a:pt x="1267" y="75"/>
                </a:lnTo>
                <a:lnTo>
                  <a:pt x="1305" y="70"/>
                </a:lnTo>
                <a:lnTo>
                  <a:pt x="1341" y="64"/>
                </a:lnTo>
                <a:lnTo>
                  <a:pt x="1376" y="58"/>
                </a:lnTo>
                <a:lnTo>
                  <a:pt x="1411" y="54"/>
                </a:lnTo>
                <a:lnTo>
                  <a:pt x="1443" y="48"/>
                </a:lnTo>
                <a:lnTo>
                  <a:pt x="1474" y="45"/>
                </a:lnTo>
                <a:lnTo>
                  <a:pt x="1505" y="39"/>
                </a:lnTo>
                <a:lnTo>
                  <a:pt x="1533" y="35"/>
                </a:lnTo>
                <a:lnTo>
                  <a:pt x="1560" y="31"/>
                </a:lnTo>
                <a:lnTo>
                  <a:pt x="1587" y="27"/>
                </a:lnTo>
                <a:lnTo>
                  <a:pt x="1612" y="25"/>
                </a:lnTo>
                <a:lnTo>
                  <a:pt x="1637" y="22"/>
                </a:lnTo>
                <a:lnTo>
                  <a:pt x="1658" y="18"/>
                </a:lnTo>
                <a:lnTo>
                  <a:pt x="1679" y="16"/>
                </a:lnTo>
                <a:lnTo>
                  <a:pt x="1700" y="14"/>
                </a:lnTo>
                <a:lnTo>
                  <a:pt x="1718" y="10"/>
                </a:lnTo>
                <a:lnTo>
                  <a:pt x="1735" y="8"/>
                </a:lnTo>
                <a:lnTo>
                  <a:pt x="1752" y="6"/>
                </a:lnTo>
                <a:lnTo>
                  <a:pt x="1766" y="6"/>
                </a:lnTo>
                <a:lnTo>
                  <a:pt x="1779" y="4"/>
                </a:lnTo>
                <a:lnTo>
                  <a:pt x="1792" y="2"/>
                </a:lnTo>
                <a:lnTo>
                  <a:pt x="1802" y="2"/>
                </a:lnTo>
                <a:lnTo>
                  <a:pt x="1812" y="0"/>
                </a:lnTo>
                <a:lnTo>
                  <a:pt x="1821" y="0"/>
                </a:lnTo>
                <a:lnTo>
                  <a:pt x="1829" y="0"/>
                </a:lnTo>
                <a:lnTo>
                  <a:pt x="1835" y="0"/>
                </a:lnTo>
                <a:lnTo>
                  <a:pt x="1850" y="0"/>
                </a:lnTo>
                <a:lnTo>
                  <a:pt x="1865" y="2"/>
                </a:lnTo>
                <a:lnTo>
                  <a:pt x="1879" y="6"/>
                </a:lnTo>
                <a:lnTo>
                  <a:pt x="1894" y="12"/>
                </a:lnTo>
                <a:lnTo>
                  <a:pt x="1900" y="14"/>
                </a:lnTo>
                <a:lnTo>
                  <a:pt x="1908" y="18"/>
                </a:lnTo>
                <a:lnTo>
                  <a:pt x="1913" y="22"/>
                </a:lnTo>
                <a:lnTo>
                  <a:pt x="1921" y="27"/>
                </a:lnTo>
                <a:lnTo>
                  <a:pt x="1927" y="31"/>
                </a:lnTo>
                <a:lnTo>
                  <a:pt x="1933" y="37"/>
                </a:lnTo>
                <a:lnTo>
                  <a:pt x="1938" y="45"/>
                </a:lnTo>
                <a:lnTo>
                  <a:pt x="1944" y="50"/>
                </a:lnTo>
                <a:lnTo>
                  <a:pt x="1946" y="58"/>
                </a:lnTo>
                <a:lnTo>
                  <a:pt x="1946" y="64"/>
                </a:lnTo>
                <a:lnTo>
                  <a:pt x="1946" y="71"/>
                </a:lnTo>
                <a:lnTo>
                  <a:pt x="1946" y="77"/>
                </a:lnTo>
                <a:lnTo>
                  <a:pt x="1944" y="83"/>
                </a:lnTo>
                <a:lnTo>
                  <a:pt x="1940" y="89"/>
                </a:lnTo>
                <a:lnTo>
                  <a:pt x="1936" y="93"/>
                </a:lnTo>
                <a:lnTo>
                  <a:pt x="1931" y="98"/>
                </a:lnTo>
                <a:lnTo>
                  <a:pt x="1925" y="102"/>
                </a:lnTo>
                <a:lnTo>
                  <a:pt x="1917" y="108"/>
                </a:lnTo>
                <a:lnTo>
                  <a:pt x="1910" y="112"/>
                </a:lnTo>
                <a:lnTo>
                  <a:pt x="1900" y="116"/>
                </a:lnTo>
                <a:lnTo>
                  <a:pt x="1888" y="119"/>
                </a:lnTo>
                <a:lnTo>
                  <a:pt x="1875" y="121"/>
                </a:lnTo>
                <a:lnTo>
                  <a:pt x="1862" y="125"/>
                </a:lnTo>
                <a:lnTo>
                  <a:pt x="1848" y="127"/>
                </a:lnTo>
                <a:lnTo>
                  <a:pt x="1829" y="129"/>
                </a:lnTo>
                <a:lnTo>
                  <a:pt x="1810" y="133"/>
                </a:lnTo>
                <a:lnTo>
                  <a:pt x="1789" y="135"/>
                </a:lnTo>
                <a:lnTo>
                  <a:pt x="1768" y="139"/>
                </a:lnTo>
                <a:lnTo>
                  <a:pt x="1745" y="142"/>
                </a:lnTo>
                <a:lnTo>
                  <a:pt x="1721" y="146"/>
                </a:lnTo>
                <a:lnTo>
                  <a:pt x="1697" y="148"/>
                </a:lnTo>
                <a:lnTo>
                  <a:pt x="1672" y="152"/>
                </a:lnTo>
                <a:lnTo>
                  <a:pt x="1645" y="156"/>
                </a:lnTo>
                <a:lnTo>
                  <a:pt x="1616" y="160"/>
                </a:lnTo>
                <a:lnTo>
                  <a:pt x="1587" y="164"/>
                </a:lnTo>
                <a:lnTo>
                  <a:pt x="1556" y="165"/>
                </a:lnTo>
                <a:lnTo>
                  <a:pt x="1526" y="169"/>
                </a:lnTo>
                <a:lnTo>
                  <a:pt x="1493" y="173"/>
                </a:lnTo>
                <a:lnTo>
                  <a:pt x="1459" y="175"/>
                </a:lnTo>
                <a:lnTo>
                  <a:pt x="1424" y="179"/>
                </a:lnTo>
                <a:lnTo>
                  <a:pt x="1386" y="183"/>
                </a:lnTo>
                <a:lnTo>
                  <a:pt x="1349" y="189"/>
                </a:lnTo>
                <a:lnTo>
                  <a:pt x="1309" y="194"/>
                </a:lnTo>
                <a:lnTo>
                  <a:pt x="1268" y="200"/>
                </a:lnTo>
                <a:lnTo>
                  <a:pt x="1228" y="206"/>
                </a:lnTo>
                <a:lnTo>
                  <a:pt x="1186" y="212"/>
                </a:lnTo>
                <a:lnTo>
                  <a:pt x="1142" y="219"/>
                </a:lnTo>
                <a:lnTo>
                  <a:pt x="1096" y="225"/>
                </a:lnTo>
                <a:lnTo>
                  <a:pt x="1050" y="233"/>
                </a:lnTo>
                <a:lnTo>
                  <a:pt x="1004" y="240"/>
                </a:lnTo>
                <a:lnTo>
                  <a:pt x="954" y="248"/>
                </a:lnTo>
                <a:lnTo>
                  <a:pt x="906" y="256"/>
                </a:lnTo>
                <a:lnTo>
                  <a:pt x="854" y="265"/>
                </a:lnTo>
                <a:lnTo>
                  <a:pt x="804" y="273"/>
                </a:lnTo>
                <a:lnTo>
                  <a:pt x="750" y="283"/>
                </a:lnTo>
                <a:lnTo>
                  <a:pt x="698" y="292"/>
                </a:lnTo>
                <a:lnTo>
                  <a:pt x="672" y="298"/>
                </a:lnTo>
                <a:lnTo>
                  <a:pt x="645" y="304"/>
                </a:lnTo>
                <a:lnTo>
                  <a:pt x="620" y="309"/>
                </a:lnTo>
                <a:lnTo>
                  <a:pt x="595" y="315"/>
                </a:lnTo>
                <a:lnTo>
                  <a:pt x="572" y="321"/>
                </a:lnTo>
                <a:lnTo>
                  <a:pt x="549" y="325"/>
                </a:lnTo>
                <a:lnTo>
                  <a:pt x="526" y="329"/>
                </a:lnTo>
                <a:lnTo>
                  <a:pt x="505" y="334"/>
                </a:lnTo>
                <a:lnTo>
                  <a:pt x="483" y="338"/>
                </a:lnTo>
                <a:lnTo>
                  <a:pt x="464" y="342"/>
                </a:lnTo>
                <a:lnTo>
                  <a:pt x="445" y="346"/>
                </a:lnTo>
                <a:lnTo>
                  <a:pt x="426" y="350"/>
                </a:lnTo>
                <a:lnTo>
                  <a:pt x="409" y="352"/>
                </a:lnTo>
                <a:lnTo>
                  <a:pt x="391" y="356"/>
                </a:lnTo>
                <a:lnTo>
                  <a:pt x="374" y="359"/>
                </a:lnTo>
                <a:lnTo>
                  <a:pt x="359" y="361"/>
                </a:lnTo>
                <a:lnTo>
                  <a:pt x="343" y="363"/>
                </a:lnTo>
                <a:lnTo>
                  <a:pt x="330" y="367"/>
                </a:lnTo>
                <a:lnTo>
                  <a:pt x="316" y="369"/>
                </a:lnTo>
                <a:lnTo>
                  <a:pt x="303" y="371"/>
                </a:lnTo>
                <a:lnTo>
                  <a:pt x="290" y="373"/>
                </a:lnTo>
                <a:lnTo>
                  <a:pt x="278" y="375"/>
                </a:lnTo>
                <a:lnTo>
                  <a:pt x="268" y="375"/>
                </a:lnTo>
                <a:lnTo>
                  <a:pt x="259" y="377"/>
                </a:lnTo>
                <a:lnTo>
                  <a:pt x="249" y="379"/>
                </a:lnTo>
                <a:lnTo>
                  <a:pt x="240" y="379"/>
                </a:lnTo>
                <a:lnTo>
                  <a:pt x="232" y="380"/>
                </a:lnTo>
                <a:lnTo>
                  <a:pt x="226" y="380"/>
                </a:lnTo>
                <a:lnTo>
                  <a:pt x="219" y="380"/>
                </a:lnTo>
                <a:lnTo>
                  <a:pt x="213" y="380"/>
                </a:lnTo>
                <a:lnTo>
                  <a:pt x="209" y="380"/>
                </a:lnTo>
                <a:lnTo>
                  <a:pt x="205" y="382"/>
                </a:lnTo>
                <a:lnTo>
                  <a:pt x="190" y="380"/>
                </a:lnTo>
                <a:lnTo>
                  <a:pt x="173" y="379"/>
                </a:lnTo>
                <a:lnTo>
                  <a:pt x="157" y="375"/>
                </a:lnTo>
                <a:lnTo>
                  <a:pt x="142" y="371"/>
                </a:lnTo>
                <a:lnTo>
                  <a:pt x="132" y="367"/>
                </a:lnTo>
                <a:lnTo>
                  <a:pt x="125" y="363"/>
                </a:lnTo>
                <a:lnTo>
                  <a:pt x="115" y="359"/>
                </a:lnTo>
                <a:lnTo>
                  <a:pt x="105" y="356"/>
                </a:lnTo>
                <a:lnTo>
                  <a:pt x="98" y="350"/>
                </a:lnTo>
                <a:lnTo>
                  <a:pt x="88" y="344"/>
                </a:lnTo>
                <a:lnTo>
                  <a:pt x="78" y="338"/>
                </a:lnTo>
                <a:lnTo>
                  <a:pt x="67" y="3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9"/>
          <p:cNvSpPr/>
          <p:nvPr/>
        </p:nvSpPr>
        <p:spPr>
          <a:xfrm>
            <a:off x="5784840" y="3456000"/>
            <a:ext cx="988920" cy="214200"/>
          </a:xfrm>
          <a:custGeom>
            <a:avLst/>
            <a:gdLst/>
            <a:ahLst/>
            <a:rect l="l" t="t" r="r" b="b"/>
            <a:pathLst>
              <a:path w="1246" h="271">
                <a:moveTo>
                  <a:pt x="1096" y="4"/>
                </a:moveTo>
                <a:lnTo>
                  <a:pt x="1114" y="4"/>
                </a:lnTo>
                <a:lnTo>
                  <a:pt x="1129" y="4"/>
                </a:lnTo>
                <a:lnTo>
                  <a:pt x="1144" y="4"/>
                </a:lnTo>
                <a:lnTo>
                  <a:pt x="1160" y="6"/>
                </a:lnTo>
                <a:lnTo>
                  <a:pt x="1173" y="6"/>
                </a:lnTo>
                <a:lnTo>
                  <a:pt x="1185" y="8"/>
                </a:lnTo>
                <a:lnTo>
                  <a:pt x="1196" y="10"/>
                </a:lnTo>
                <a:lnTo>
                  <a:pt x="1208" y="12"/>
                </a:lnTo>
                <a:lnTo>
                  <a:pt x="1215" y="14"/>
                </a:lnTo>
                <a:lnTo>
                  <a:pt x="1223" y="16"/>
                </a:lnTo>
                <a:lnTo>
                  <a:pt x="1231" y="18"/>
                </a:lnTo>
                <a:lnTo>
                  <a:pt x="1236" y="19"/>
                </a:lnTo>
                <a:lnTo>
                  <a:pt x="1240" y="21"/>
                </a:lnTo>
                <a:lnTo>
                  <a:pt x="1244" y="23"/>
                </a:lnTo>
                <a:lnTo>
                  <a:pt x="1246" y="27"/>
                </a:lnTo>
                <a:lnTo>
                  <a:pt x="1246" y="29"/>
                </a:lnTo>
                <a:lnTo>
                  <a:pt x="1246" y="33"/>
                </a:lnTo>
                <a:lnTo>
                  <a:pt x="1244" y="39"/>
                </a:lnTo>
                <a:lnTo>
                  <a:pt x="1244" y="42"/>
                </a:lnTo>
                <a:lnTo>
                  <a:pt x="1240" y="48"/>
                </a:lnTo>
                <a:lnTo>
                  <a:pt x="1238" y="52"/>
                </a:lnTo>
                <a:lnTo>
                  <a:pt x="1235" y="58"/>
                </a:lnTo>
                <a:lnTo>
                  <a:pt x="1231" y="62"/>
                </a:lnTo>
                <a:lnTo>
                  <a:pt x="1227" y="67"/>
                </a:lnTo>
                <a:lnTo>
                  <a:pt x="1217" y="77"/>
                </a:lnTo>
                <a:lnTo>
                  <a:pt x="1206" y="87"/>
                </a:lnTo>
                <a:lnTo>
                  <a:pt x="1192" y="96"/>
                </a:lnTo>
                <a:lnTo>
                  <a:pt x="1179" y="106"/>
                </a:lnTo>
                <a:lnTo>
                  <a:pt x="1167" y="110"/>
                </a:lnTo>
                <a:lnTo>
                  <a:pt x="1156" y="115"/>
                </a:lnTo>
                <a:lnTo>
                  <a:pt x="1142" y="119"/>
                </a:lnTo>
                <a:lnTo>
                  <a:pt x="1129" y="125"/>
                </a:lnTo>
                <a:lnTo>
                  <a:pt x="1114" y="129"/>
                </a:lnTo>
                <a:lnTo>
                  <a:pt x="1098" y="133"/>
                </a:lnTo>
                <a:lnTo>
                  <a:pt x="1081" y="138"/>
                </a:lnTo>
                <a:lnTo>
                  <a:pt x="1064" y="142"/>
                </a:lnTo>
                <a:lnTo>
                  <a:pt x="1045" y="148"/>
                </a:lnTo>
                <a:lnTo>
                  <a:pt x="1023" y="152"/>
                </a:lnTo>
                <a:lnTo>
                  <a:pt x="1002" y="158"/>
                </a:lnTo>
                <a:lnTo>
                  <a:pt x="979" y="161"/>
                </a:lnTo>
                <a:lnTo>
                  <a:pt x="956" y="167"/>
                </a:lnTo>
                <a:lnTo>
                  <a:pt x="931" y="171"/>
                </a:lnTo>
                <a:lnTo>
                  <a:pt x="904" y="177"/>
                </a:lnTo>
                <a:lnTo>
                  <a:pt x="878" y="183"/>
                </a:lnTo>
                <a:lnTo>
                  <a:pt x="820" y="192"/>
                </a:lnTo>
                <a:lnTo>
                  <a:pt x="764" y="200"/>
                </a:lnTo>
                <a:lnTo>
                  <a:pt x="709" y="209"/>
                </a:lnTo>
                <a:lnTo>
                  <a:pt x="655" y="219"/>
                </a:lnTo>
                <a:lnTo>
                  <a:pt x="601" y="227"/>
                </a:lnTo>
                <a:lnTo>
                  <a:pt x="574" y="231"/>
                </a:lnTo>
                <a:lnTo>
                  <a:pt x="549" y="233"/>
                </a:lnTo>
                <a:lnTo>
                  <a:pt x="524" y="236"/>
                </a:lnTo>
                <a:lnTo>
                  <a:pt x="499" y="240"/>
                </a:lnTo>
                <a:lnTo>
                  <a:pt x="474" y="242"/>
                </a:lnTo>
                <a:lnTo>
                  <a:pt x="451" y="246"/>
                </a:lnTo>
                <a:lnTo>
                  <a:pt x="426" y="248"/>
                </a:lnTo>
                <a:lnTo>
                  <a:pt x="403" y="250"/>
                </a:lnTo>
                <a:lnTo>
                  <a:pt x="380" y="252"/>
                </a:lnTo>
                <a:lnTo>
                  <a:pt x="359" y="254"/>
                </a:lnTo>
                <a:lnTo>
                  <a:pt x="340" y="257"/>
                </a:lnTo>
                <a:lnTo>
                  <a:pt x="321" y="259"/>
                </a:lnTo>
                <a:lnTo>
                  <a:pt x="304" y="261"/>
                </a:lnTo>
                <a:lnTo>
                  <a:pt x="286" y="263"/>
                </a:lnTo>
                <a:lnTo>
                  <a:pt x="271" y="265"/>
                </a:lnTo>
                <a:lnTo>
                  <a:pt x="256" y="265"/>
                </a:lnTo>
                <a:lnTo>
                  <a:pt x="242" y="267"/>
                </a:lnTo>
                <a:lnTo>
                  <a:pt x="231" y="269"/>
                </a:lnTo>
                <a:lnTo>
                  <a:pt x="219" y="269"/>
                </a:lnTo>
                <a:lnTo>
                  <a:pt x="210" y="269"/>
                </a:lnTo>
                <a:lnTo>
                  <a:pt x="200" y="271"/>
                </a:lnTo>
                <a:lnTo>
                  <a:pt x="192" y="271"/>
                </a:lnTo>
                <a:lnTo>
                  <a:pt x="185" y="271"/>
                </a:lnTo>
                <a:lnTo>
                  <a:pt x="175" y="269"/>
                </a:lnTo>
                <a:lnTo>
                  <a:pt x="167" y="267"/>
                </a:lnTo>
                <a:lnTo>
                  <a:pt x="158" y="265"/>
                </a:lnTo>
                <a:lnTo>
                  <a:pt x="148" y="263"/>
                </a:lnTo>
                <a:lnTo>
                  <a:pt x="139" y="261"/>
                </a:lnTo>
                <a:lnTo>
                  <a:pt x="127" y="257"/>
                </a:lnTo>
                <a:lnTo>
                  <a:pt x="116" y="254"/>
                </a:lnTo>
                <a:lnTo>
                  <a:pt x="104" y="250"/>
                </a:lnTo>
                <a:lnTo>
                  <a:pt x="93" y="244"/>
                </a:lnTo>
                <a:lnTo>
                  <a:pt x="79" y="238"/>
                </a:lnTo>
                <a:lnTo>
                  <a:pt x="66" y="233"/>
                </a:lnTo>
                <a:lnTo>
                  <a:pt x="50" y="227"/>
                </a:lnTo>
                <a:lnTo>
                  <a:pt x="35" y="221"/>
                </a:lnTo>
                <a:lnTo>
                  <a:pt x="18" y="213"/>
                </a:lnTo>
                <a:lnTo>
                  <a:pt x="0" y="208"/>
                </a:lnTo>
                <a:lnTo>
                  <a:pt x="23" y="202"/>
                </a:lnTo>
                <a:lnTo>
                  <a:pt x="48" y="196"/>
                </a:lnTo>
                <a:lnTo>
                  <a:pt x="75" y="192"/>
                </a:lnTo>
                <a:lnTo>
                  <a:pt x="104" y="185"/>
                </a:lnTo>
                <a:lnTo>
                  <a:pt x="133" y="179"/>
                </a:lnTo>
                <a:lnTo>
                  <a:pt x="164" y="173"/>
                </a:lnTo>
                <a:lnTo>
                  <a:pt x="196" y="165"/>
                </a:lnTo>
                <a:lnTo>
                  <a:pt x="229" y="158"/>
                </a:lnTo>
                <a:lnTo>
                  <a:pt x="265" y="150"/>
                </a:lnTo>
                <a:lnTo>
                  <a:pt x="302" y="142"/>
                </a:lnTo>
                <a:lnTo>
                  <a:pt x="340" y="133"/>
                </a:lnTo>
                <a:lnTo>
                  <a:pt x="382" y="123"/>
                </a:lnTo>
                <a:lnTo>
                  <a:pt x="425" y="114"/>
                </a:lnTo>
                <a:lnTo>
                  <a:pt x="469" y="102"/>
                </a:lnTo>
                <a:lnTo>
                  <a:pt x="513" y="90"/>
                </a:lnTo>
                <a:lnTo>
                  <a:pt x="561" y="79"/>
                </a:lnTo>
                <a:lnTo>
                  <a:pt x="609" y="67"/>
                </a:lnTo>
                <a:lnTo>
                  <a:pt x="655" y="58"/>
                </a:lnTo>
                <a:lnTo>
                  <a:pt x="699" y="46"/>
                </a:lnTo>
                <a:lnTo>
                  <a:pt x="720" y="42"/>
                </a:lnTo>
                <a:lnTo>
                  <a:pt x="741" y="39"/>
                </a:lnTo>
                <a:lnTo>
                  <a:pt x="760" y="35"/>
                </a:lnTo>
                <a:lnTo>
                  <a:pt x="782" y="31"/>
                </a:lnTo>
                <a:lnTo>
                  <a:pt x="801" y="27"/>
                </a:lnTo>
                <a:lnTo>
                  <a:pt x="820" y="23"/>
                </a:lnTo>
                <a:lnTo>
                  <a:pt x="837" y="19"/>
                </a:lnTo>
                <a:lnTo>
                  <a:pt x="856" y="18"/>
                </a:lnTo>
                <a:lnTo>
                  <a:pt x="874" y="14"/>
                </a:lnTo>
                <a:lnTo>
                  <a:pt x="891" y="12"/>
                </a:lnTo>
                <a:lnTo>
                  <a:pt x="906" y="10"/>
                </a:lnTo>
                <a:lnTo>
                  <a:pt x="922" y="8"/>
                </a:lnTo>
                <a:lnTo>
                  <a:pt x="939" y="6"/>
                </a:lnTo>
                <a:lnTo>
                  <a:pt x="952" y="4"/>
                </a:lnTo>
                <a:lnTo>
                  <a:pt x="968" y="4"/>
                </a:lnTo>
                <a:lnTo>
                  <a:pt x="981" y="2"/>
                </a:lnTo>
                <a:lnTo>
                  <a:pt x="995" y="0"/>
                </a:lnTo>
                <a:lnTo>
                  <a:pt x="1008" y="0"/>
                </a:lnTo>
                <a:lnTo>
                  <a:pt x="1022" y="0"/>
                </a:lnTo>
                <a:lnTo>
                  <a:pt x="1033" y="0"/>
                </a:lnTo>
                <a:lnTo>
                  <a:pt x="1045" y="0"/>
                </a:lnTo>
                <a:lnTo>
                  <a:pt x="1056" y="0"/>
                </a:lnTo>
                <a:lnTo>
                  <a:pt x="1066" y="0"/>
                </a:lnTo>
                <a:lnTo>
                  <a:pt x="1077" y="0"/>
                </a:lnTo>
                <a:lnTo>
                  <a:pt x="1087" y="2"/>
                </a:lnTo>
                <a:lnTo>
                  <a:pt x="1096" y="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30"/>
          <p:cNvSpPr/>
          <p:nvPr/>
        </p:nvSpPr>
        <p:spPr>
          <a:xfrm>
            <a:off x="6529320" y="2697120"/>
            <a:ext cx="263520" cy="711360"/>
          </a:xfrm>
          <a:custGeom>
            <a:avLst/>
            <a:gdLst/>
            <a:ahLst/>
            <a:rect l="l" t="t" r="r" b="b"/>
            <a:pathLst>
              <a:path w="332" h="897">
                <a:moveTo>
                  <a:pt x="198" y="43"/>
                </a:moveTo>
                <a:lnTo>
                  <a:pt x="211" y="48"/>
                </a:lnTo>
                <a:lnTo>
                  <a:pt x="223" y="52"/>
                </a:lnTo>
                <a:lnTo>
                  <a:pt x="234" y="58"/>
                </a:lnTo>
                <a:lnTo>
                  <a:pt x="244" y="62"/>
                </a:lnTo>
                <a:lnTo>
                  <a:pt x="253" y="66"/>
                </a:lnTo>
                <a:lnTo>
                  <a:pt x="263" y="71"/>
                </a:lnTo>
                <a:lnTo>
                  <a:pt x="273" y="75"/>
                </a:lnTo>
                <a:lnTo>
                  <a:pt x="280" y="79"/>
                </a:lnTo>
                <a:lnTo>
                  <a:pt x="288" y="83"/>
                </a:lnTo>
                <a:lnTo>
                  <a:pt x="294" y="87"/>
                </a:lnTo>
                <a:lnTo>
                  <a:pt x="299" y="91"/>
                </a:lnTo>
                <a:lnTo>
                  <a:pt x="305" y="94"/>
                </a:lnTo>
                <a:lnTo>
                  <a:pt x="311" y="98"/>
                </a:lnTo>
                <a:lnTo>
                  <a:pt x="315" y="100"/>
                </a:lnTo>
                <a:lnTo>
                  <a:pt x="319" y="104"/>
                </a:lnTo>
                <a:lnTo>
                  <a:pt x="321" y="106"/>
                </a:lnTo>
                <a:lnTo>
                  <a:pt x="326" y="116"/>
                </a:lnTo>
                <a:lnTo>
                  <a:pt x="328" y="125"/>
                </a:lnTo>
                <a:lnTo>
                  <a:pt x="330" y="135"/>
                </a:lnTo>
                <a:lnTo>
                  <a:pt x="332" y="144"/>
                </a:lnTo>
                <a:lnTo>
                  <a:pt x="330" y="154"/>
                </a:lnTo>
                <a:lnTo>
                  <a:pt x="328" y="164"/>
                </a:lnTo>
                <a:lnTo>
                  <a:pt x="326" y="173"/>
                </a:lnTo>
                <a:lnTo>
                  <a:pt x="321" y="183"/>
                </a:lnTo>
                <a:lnTo>
                  <a:pt x="319" y="188"/>
                </a:lnTo>
                <a:lnTo>
                  <a:pt x="317" y="194"/>
                </a:lnTo>
                <a:lnTo>
                  <a:pt x="313" y="202"/>
                </a:lnTo>
                <a:lnTo>
                  <a:pt x="311" y="210"/>
                </a:lnTo>
                <a:lnTo>
                  <a:pt x="309" y="217"/>
                </a:lnTo>
                <a:lnTo>
                  <a:pt x="305" y="227"/>
                </a:lnTo>
                <a:lnTo>
                  <a:pt x="303" y="238"/>
                </a:lnTo>
                <a:lnTo>
                  <a:pt x="301" y="250"/>
                </a:lnTo>
                <a:lnTo>
                  <a:pt x="297" y="261"/>
                </a:lnTo>
                <a:lnTo>
                  <a:pt x="296" y="275"/>
                </a:lnTo>
                <a:lnTo>
                  <a:pt x="292" y="290"/>
                </a:lnTo>
                <a:lnTo>
                  <a:pt x="290" y="306"/>
                </a:lnTo>
                <a:lnTo>
                  <a:pt x="288" y="321"/>
                </a:lnTo>
                <a:lnTo>
                  <a:pt x="284" y="338"/>
                </a:lnTo>
                <a:lnTo>
                  <a:pt x="282" y="355"/>
                </a:lnTo>
                <a:lnTo>
                  <a:pt x="280" y="375"/>
                </a:lnTo>
                <a:lnTo>
                  <a:pt x="269" y="417"/>
                </a:lnTo>
                <a:lnTo>
                  <a:pt x="257" y="459"/>
                </a:lnTo>
                <a:lnTo>
                  <a:pt x="242" y="503"/>
                </a:lnTo>
                <a:lnTo>
                  <a:pt x="226" y="545"/>
                </a:lnTo>
                <a:lnTo>
                  <a:pt x="219" y="567"/>
                </a:lnTo>
                <a:lnTo>
                  <a:pt x="209" y="588"/>
                </a:lnTo>
                <a:lnTo>
                  <a:pt x="200" y="609"/>
                </a:lnTo>
                <a:lnTo>
                  <a:pt x="188" y="632"/>
                </a:lnTo>
                <a:lnTo>
                  <a:pt x="178" y="653"/>
                </a:lnTo>
                <a:lnTo>
                  <a:pt x="167" y="674"/>
                </a:lnTo>
                <a:lnTo>
                  <a:pt x="155" y="695"/>
                </a:lnTo>
                <a:lnTo>
                  <a:pt x="144" y="718"/>
                </a:lnTo>
                <a:lnTo>
                  <a:pt x="131" y="741"/>
                </a:lnTo>
                <a:lnTo>
                  <a:pt x="119" y="762"/>
                </a:lnTo>
                <a:lnTo>
                  <a:pt x="107" y="782"/>
                </a:lnTo>
                <a:lnTo>
                  <a:pt x="98" y="801"/>
                </a:lnTo>
                <a:lnTo>
                  <a:pt x="86" y="818"/>
                </a:lnTo>
                <a:lnTo>
                  <a:pt x="79" y="833"/>
                </a:lnTo>
                <a:lnTo>
                  <a:pt x="69" y="847"/>
                </a:lnTo>
                <a:lnTo>
                  <a:pt x="61" y="858"/>
                </a:lnTo>
                <a:lnTo>
                  <a:pt x="54" y="870"/>
                </a:lnTo>
                <a:lnTo>
                  <a:pt x="46" y="879"/>
                </a:lnTo>
                <a:lnTo>
                  <a:pt x="40" y="885"/>
                </a:lnTo>
                <a:lnTo>
                  <a:pt x="35" y="891"/>
                </a:lnTo>
                <a:lnTo>
                  <a:pt x="31" y="895"/>
                </a:lnTo>
                <a:lnTo>
                  <a:pt x="27" y="897"/>
                </a:lnTo>
                <a:lnTo>
                  <a:pt x="23" y="897"/>
                </a:lnTo>
                <a:lnTo>
                  <a:pt x="19" y="897"/>
                </a:lnTo>
                <a:lnTo>
                  <a:pt x="15" y="895"/>
                </a:lnTo>
                <a:lnTo>
                  <a:pt x="11" y="893"/>
                </a:lnTo>
                <a:lnTo>
                  <a:pt x="8" y="889"/>
                </a:lnTo>
                <a:lnTo>
                  <a:pt x="4" y="883"/>
                </a:lnTo>
                <a:lnTo>
                  <a:pt x="2" y="878"/>
                </a:lnTo>
                <a:lnTo>
                  <a:pt x="2" y="870"/>
                </a:lnTo>
                <a:lnTo>
                  <a:pt x="0" y="858"/>
                </a:lnTo>
                <a:lnTo>
                  <a:pt x="2" y="849"/>
                </a:lnTo>
                <a:lnTo>
                  <a:pt x="2" y="835"/>
                </a:lnTo>
                <a:lnTo>
                  <a:pt x="4" y="822"/>
                </a:lnTo>
                <a:lnTo>
                  <a:pt x="8" y="805"/>
                </a:lnTo>
                <a:lnTo>
                  <a:pt x="10" y="789"/>
                </a:lnTo>
                <a:lnTo>
                  <a:pt x="15" y="770"/>
                </a:lnTo>
                <a:lnTo>
                  <a:pt x="21" y="749"/>
                </a:lnTo>
                <a:lnTo>
                  <a:pt x="27" y="728"/>
                </a:lnTo>
                <a:lnTo>
                  <a:pt x="35" y="705"/>
                </a:lnTo>
                <a:lnTo>
                  <a:pt x="42" y="657"/>
                </a:lnTo>
                <a:lnTo>
                  <a:pt x="52" y="609"/>
                </a:lnTo>
                <a:lnTo>
                  <a:pt x="59" y="561"/>
                </a:lnTo>
                <a:lnTo>
                  <a:pt x="65" y="513"/>
                </a:lnTo>
                <a:lnTo>
                  <a:pt x="73" y="467"/>
                </a:lnTo>
                <a:lnTo>
                  <a:pt x="79" y="419"/>
                </a:lnTo>
                <a:lnTo>
                  <a:pt x="88" y="323"/>
                </a:lnTo>
                <a:lnTo>
                  <a:pt x="90" y="300"/>
                </a:lnTo>
                <a:lnTo>
                  <a:pt x="92" y="277"/>
                </a:lnTo>
                <a:lnTo>
                  <a:pt x="94" y="258"/>
                </a:lnTo>
                <a:lnTo>
                  <a:pt x="94" y="236"/>
                </a:lnTo>
                <a:lnTo>
                  <a:pt x="94" y="217"/>
                </a:lnTo>
                <a:lnTo>
                  <a:pt x="92" y="200"/>
                </a:lnTo>
                <a:lnTo>
                  <a:pt x="92" y="185"/>
                </a:lnTo>
                <a:lnTo>
                  <a:pt x="90" y="169"/>
                </a:lnTo>
                <a:lnTo>
                  <a:pt x="88" y="154"/>
                </a:lnTo>
                <a:lnTo>
                  <a:pt x="84" y="140"/>
                </a:lnTo>
                <a:lnTo>
                  <a:pt x="83" y="129"/>
                </a:lnTo>
                <a:lnTo>
                  <a:pt x="79" y="117"/>
                </a:lnTo>
                <a:lnTo>
                  <a:pt x="75" y="106"/>
                </a:lnTo>
                <a:lnTo>
                  <a:pt x="71" y="96"/>
                </a:lnTo>
                <a:lnTo>
                  <a:pt x="65" y="89"/>
                </a:lnTo>
                <a:lnTo>
                  <a:pt x="61" y="81"/>
                </a:lnTo>
                <a:lnTo>
                  <a:pt x="54" y="73"/>
                </a:lnTo>
                <a:lnTo>
                  <a:pt x="48" y="68"/>
                </a:lnTo>
                <a:lnTo>
                  <a:pt x="42" y="62"/>
                </a:lnTo>
                <a:lnTo>
                  <a:pt x="38" y="54"/>
                </a:lnTo>
                <a:lnTo>
                  <a:pt x="35" y="48"/>
                </a:lnTo>
                <a:lnTo>
                  <a:pt x="33" y="43"/>
                </a:lnTo>
                <a:lnTo>
                  <a:pt x="31" y="39"/>
                </a:lnTo>
                <a:lnTo>
                  <a:pt x="31" y="33"/>
                </a:lnTo>
                <a:lnTo>
                  <a:pt x="31" y="29"/>
                </a:lnTo>
                <a:lnTo>
                  <a:pt x="33" y="25"/>
                </a:lnTo>
                <a:lnTo>
                  <a:pt x="35" y="20"/>
                </a:lnTo>
                <a:lnTo>
                  <a:pt x="38" y="18"/>
                </a:lnTo>
                <a:lnTo>
                  <a:pt x="42" y="14"/>
                </a:lnTo>
                <a:lnTo>
                  <a:pt x="48" y="10"/>
                </a:lnTo>
                <a:lnTo>
                  <a:pt x="54" y="8"/>
                </a:lnTo>
                <a:lnTo>
                  <a:pt x="61" y="4"/>
                </a:lnTo>
                <a:lnTo>
                  <a:pt x="65" y="2"/>
                </a:lnTo>
                <a:lnTo>
                  <a:pt x="71" y="0"/>
                </a:lnTo>
                <a:lnTo>
                  <a:pt x="79" y="0"/>
                </a:lnTo>
                <a:lnTo>
                  <a:pt x="84" y="0"/>
                </a:lnTo>
                <a:lnTo>
                  <a:pt x="90" y="0"/>
                </a:lnTo>
                <a:lnTo>
                  <a:pt x="98" y="0"/>
                </a:lnTo>
                <a:lnTo>
                  <a:pt x="106" y="2"/>
                </a:lnTo>
                <a:lnTo>
                  <a:pt x="113" y="4"/>
                </a:lnTo>
                <a:lnTo>
                  <a:pt x="123" y="8"/>
                </a:lnTo>
                <a:lnTo>
                  <a:pt x="132" y="10"/>
                </a:lnTo>
                <a:lnTo>
                  <a:pt x="142" y="14"/>
                </a:lnTo>
                <a:lnTo>
                  <a:pt x="152" y="20"/>
                </a:lnTo>
                <a:lnTo>
                  <a:pt x="161" y="23"/>
                </a:lnTo>
                <a:lnTo>
                  <a:pt x="173" y="29"/>
                </a:lnTo>
                <a:lnTo>
                  <a:pt x="186" y="35"/>
                </a:lnTo>
                <a:lnTo>
                  <a:pt x="198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1"/>
          <p:cNvSpPr/>
          <p:nvPr/>
        </p:nvSpPr>
        <p:spPr>
          <a:xfrm>
            <a:off x="5962680" y="2847960"/>
            <a:ext cx="244440" cy="627120"/>
          </a:xfrm>
          <a:custGeom>
            <a:avLst/>
            <a:gdLst/>
            <a:ahLst/>
            <a:rect l="l" t="t" r="r" b="b"/>
            <a:pathLst>
              <a:path w="309" h="791">
                <a:moveTo>
                  <a:pt x="36" y="94"/>
                </a:moveTo>
                <a:lnTo>
                  <a:pt x="29" y="91"/>
                </a:lnTo>
                <a:lnTo>
                  <a:pt x="23" y="85"/>
                </a:lnTo>
                <a:lnTo>
                  <a:pt x="17" y="81"/>
                </a:lnTo>
                <a:lnTo>
                  <a:pt x="11" y="75"/>
                </a:lnTo>
                <a:lnTo>
                  <a:pt x="8" y="71"/>
                </a:lnTo>
                <a:lnTo>
                  <a:pt x="6" y="66"/>
                </a:lnTo>
                <a:lnTo>
                  <a:pt x="4" y="62"/>
                </a:lnTo>
                <a:lnTo>
                  <a:pt x="2" y="56"/>
                </a:lnTo>
                <a:lnTo>
                  <a:pt x="0" y="52"/>
                </a:lnTo>
                <a:lnTo>
                  <a:pt x="0" y="46"/>
                </a:lnTo>
                <a:lnTo>
                  <a:pt x="0" y="43"/>
                </a:lnTo>
                <a:lnTo>
                  <a:pt x="2" y="37"/>
                </a:lnTo>
                <a:lnTo>
                  <a:pt x="4" y="27"/>
                </a:lnTo>
                <a:lnTo>
                  <a:pt x="8" y="18"/>
                </a:lnTo>
                <a:lnTo>
                  <a:pt x="11" y="14"/>
                </a:lnTo>
                <a:lnTo>
                  <a:pt x="15" y="10"/>
                </a:lnTo>
                <a:lnTo>
                  <a:pt x="19" y="6"/>
                </a:lnTo>
                <a:lnTo>
                  <a:pt x="27" y="4"/>
                </a:lnTo>
                <a:lnTo>
                  <a:pt x="33" y="2"/>
                </a:lnTo>
                <a:lnTo>
                  <a:pt x="40" y="0"/>
                </a:lnTo>
                <a:lnTo>
                  <a:pt x="50" y="0"/>
                </a:lnTo>
                <a:lnTo>
                  <a:pt x="59" y="0"/>
                </a:lnTo>
                <a:lnTo>
                  <a:pt x="71" y="2"/>
                </a:lnTo>
                <a:lnTo>
                  <a:pt x="82" y="2"/>
                </a:lnTo>
                <a:lnTo>
                  <a:pt x="94" y="6"/>
                </a:lnTo>
                <a:lnTo>
                  <a:pt x="107" y="10"/>
                </a:lnTo>
                <a:lnTo>
                  <a:pt x="123" y="14"/>
                </a:lnTo>
                <a:lnTo>
                  <a:pt x="138" y="18"/>
                </a:lnTo>
                <a:lnTo>
                  <a:pt x="155" y="23"/>
                </a:lnTo>
                <a:lnTo>
                  <a:pt x="173" y="31"/>
                </a:lnTo>
                <a:lnTo>
                  <a:pt x="188" y="39"/>
                </a:lnTo>
                <a:lnTo>
                  <a:pt x="201" y="46"/>
                </a:lnTo>
                <a:lnTo>
                  <a:pt x="215" y="52"/>
                </a:lnTo>
                <a:lnTo>
                  <a:pt x="226" y="60"/>
                </a:lnTo>
                <a:lnTo>
                  <a:pt x="238" y="66"/>
                </a:lnTo>
                <a:lnTo>
                  <a:pt x="248" y="73"/>
                </a:lnTo>
                <a:lnTo>
                  <a:pt x="257" y="79"/>
                </a:lnTo>
                <a:lnTo>
                  <a:pt x="267" y="85"/>
                </a:lnTo>
                <a:lnTo>
                  <a:pt x="274" y="91"/>
                </a:lnTo>
                <a:lnTo>
                  <a:pt x="282" y="96"/>
                </a:lnTo>
                <a:lnTo>
                  <a:pt x="288" y="102"/>
                </a:lnTo>
                <a:lnTo>
                  <a:pt x="294" y="106"/>
                </a:lnTo>
                <a:lnTo>
                  <a:pt x="299" y="110"/>
                </a:lnTo>
                <a:lnTo>
                  <a:pt x="303" y="114"/>
                </a:lnTo>
                <a:lnTo>
                  <a:pt x="307" y="117"/>
                </a:lnTo>
                <a:lnTo>
                  <a:pt x="309" y="119"/>
                </a:lnTo>
                <a:lnTo>
                  <a:pt x="309" y="123"/>
                </a:lnTo>
                <a:lnTo>
                  <a:pt x="309" y="125"/>
                </a:lnTo>
                <a:lnTo>
                  <a:pt x="309" y="129"/>
                </a:lnTo>
                <a:lnTo>
                  <a:pt x="309" y="133"/>
                </a:lnTo>
                <a:lnTo>
                  <a:pt x="309" y="139"/>
                </a:lnTo>
                <a:lnTo>
                  <a:pt x="309" y="144"/>
                </a:lnTo>
                <a:lnTo>
                  <a:pt x="309" y="150"/>
                </a:lnTo>
                <a:lnTo>
                  <a:pt x="309" y="156"/>
                </a:lnTo>
                <a:lnTo>
                  <a:pt x="309" y="162"/>
                </a:lnTo>
                <a:lnTo>
                  <a:pt x="309" y="169"/>
                </a:lnTo>
                <a:lnTo>
                  <a:pt x="309" y="177"/>
                </a:lnTo>
                <a:lnTo>
                  <a:pt x="309" y="187"/>
                </a:lnTo>
                <a:lnTo>
                  <a:pt x="309" y="194"/>
                </a:lnTo>
                <a:lnTo>
                  <a:pt x="307" y="204"/>
                </a:lnTo>
                <a:lnTo>
                  <a:pt x="307" y="213"/>
                </a:lnTo>
                <a:lnTo>
                  <a:pt x="307" y="223"/>
                </a:lnTo>
                <a:lnTo>
                  <a:pt x="307" y="235"/>
                </a:lnTo>
                <a:lnTo>
                  <a:pt x="307" y="246"/>
                </a:lnTo>
                <a:lnTo>
                  <a:pt x="305" y="269"/>
                </a:lnTo>
                <a:lnTo>
                  <a:pt x="305" y="294"/>
                </a:lnTo>
                <a:lnTo>
                  <a:pt x="303" y="323"/>
                </a:lnTo>
                <a:lnTo>
                  <a:pt x="301" y="352"/>
                </a:lnTo>
                <a:lnTo>
                  <a:pt x="299" y="382"/>
                </a:lnTo>
                <a:lnTo>
                  <a:pt x="297" y="417"/>
                </a:lnTo>
                <a:lnTo>
                  <a:pt x="296" y="451"/>
                </a:lnTo>
                <a:lnTo>
                  <a:pt x="294" y="486"/>
                </a:lnTo>
                <a:lnTo>
                  <a:pt x="290" y="519"/>
                </a:lnTo>
                <a:lnTo>
                  <a:pt x="288" y="549"/>
                </a:lnTo>
                <a:lnTo>
                  <a:pt x="286" y="565"/>
                </a:lnTo>
                <a:lnTo>
                  <a:pt x="286" y="580"/>
                </a:lnTo>
                <a:lnTo>
                  <a:pt x="284" y="594"/>
                </a:lnTo>
                <a:lnTo>
                  <a:pt x="282" y="607"/>
                </a:lnTo>
                <a:lnTo>
                  <a:pt x="282" y="620"/>
                </a:lnTo>
                <a:lnTo>
                  <a:pt x="280" y="632"/>
                </a:lnTo>
                <a:lnTo>
                  <a:pt x="278" y="643"/>
                </a:lnTo>
                <a:lnTo>
                  <a:pt x="278" y="655"/>
                </a:lnTo>
                <a:lnTo>
                  <a:pt x="276" y="666"/>
                </a:lnTo>
                <a:lnTo>
                  <a:pt x="274" y="676"/>
                </a:lnTo>
                <a:lnTo>
                  <a:pt x="274" y="688"/>
                </a:lnTo>
                <a:lnTo>
                  <a:pt x="273" y="695"/>
                </a:lnTo>
                <a:lnTo>
                  <a:pt x="271" y="705"/>
                </a:lnTo>
                <a:lnTo>
                  <a:pt x="271" y="713"/>
                </a:lnTo>
                <a:lnTo>
                  <a:pt x="269" y="720"/>
                </a:lnTo>
                <a:lnTo>
                  <a:pt x="267" y="728"/>
                </a:lnTo>
                <a:lnTo>
                  <a:pt x="267" y="736"/>
                </a:lnTo>
                <a:lnTo>
                  <a:pt x="265" y="741"/>
                </a:lnTo>
                <a:lnTo>
                  <a:pt x="263" y="747"/>
                </a:lnTo>
                <a:lnTo>
                  <a:pt x="263" y="751"/>
                </a:lnTo>
                <a:lnTo>
                  <a:pt x="261" y="757"/>
                </a:lnTo>
                <a:lnTo>
                  <a:pt x="259" y="760"/>
                </a:lnTo>
                <a:lnTo>
                  <a:pt x="259" y="762"/>
                </a:lnTo>
                <a:lnTo>
                  <a:pt x="257" y="766"/>
                </a:lnTo>
                <a:lnTo>
                  <a:pt x="255" y="768"/>
                </a:lnTo>
                <a:lnTo>
                  <a:pt x="255" y="770"/>
                </a:lnTo>
                <a:lnTo>
                  <a:pt x="249" y="774"/>
                </a:lnTo>
                <a:lnTo>
                  <a:pt x="246" y="778"/>
                </a:lnTo>
                <a:lnTo>
                  <a:pt x="240" y="782"/>
                </a:lnTo>
                <a:lnTo>
                  <a:pt x="236" y="784"/>
                </a:lnTo>
                <a:lnTo>
                  <a:pt x="232" y="785"/>
                </a:lnTo>
                <a:lnTo>
                  <a:pt x="228" y="787"/>
                </a:lnTo>
                <a:lnTo>
                  <a:pt x="225" y="789"/>
                </a:lnTo>
                <a:lnTo>
                  <a:pt x="223" y="789"/>
                </a:lnTo>
                <a:lnTo>
                  <a:pt x="215" y="791"/>
                </a:lnTo>
                <a:lnTo>
                  <a:pt x="209" y="789"/>
                </a:lnTo>
                <a:lnTo>
                  <a:pt x="205" y="785"/>
                </a:lnTo>
                <a:lnTo>
                  <a:pt x="200" y="782"/>
                </a:lnTo>
                <a:lnTo>
                  <a:pt x="198" y="782"/>
                </a:lnTo>
                <a:lnTo>
                  <a:pt x="198" y="778"/>
                </a:lnTo>
                <a:lnTo>
                  <a:pt x="196" y="776"/>
                </a:lnTo>
                <a:lnTo>
                  <a:pt x="194" y="774"/>
                </a:lnTo>
                <a:lnTo>
                  <a:pt x="192" y="770"/>
                </a:lnTo>
                <a:lnTo>
                  <a:pt x="190" y="766"/>
                </a:lnTo>
                <a:lnTo>
                  <a:pt x="190" y="760"/>
                </a:lnTo>
                <a:lnTo>
                  <a:pt x="188" y="755"/>
                </a:lnTo>
                <a:lnTo>
                  <a:pt x="186" y="749"/>
                </a:lnTo>
                <a:lnTo>
                  <a:pt x="184" y="743"/>
                </a:lnTo>
                <a:lnTo>
                  <a:pt x="182" y="736"/>
                </a:lnTo>
                <a:lnTo>
                  <a:pt x="180" y="728"/>
                </a:lnTo>
                <a:lnTo>
                  <a:pt x="178" y="720"/>
                </a:lnTo>
                <a:lnTo>
                  <a:pt x="177" y="713"/>
                </a:lnTo>
                <a:lnTo>
                  <a:pt x="175" y="703"/>
                </a:lnTo>
                <a:lnTo>
                  <a:pt x="173" y="693"/>
                </a:lnTo>
                <a:lnTo>
                  <a:pt x="171" y="682"/>
                </a:lnTo>
                <a:lnTo>
                  <a:pt x="169" y="672"/>
                </a:lnTo>
                <a:lnTo>
                  <a:pt x="167" y="661"/>
                </a:lnTo>
                <a:lnTo>
                  <a:pt x="165" y="647"/>
                </a:lnTo>
                <a:lnTo>
                  <a:pt x="163" y="634"/>
                </a:lnTo>
                <a:lnTo>
                  <a:pt x="161" y="620"/>
                </a:lnTo>
                <a:lnTo>
                  <a:pt x="159" y="607"/>
                </a:lnTo>
                <a:lnTo>
                  <a:pt x="157" y="592"/>
                </a:lnTo>
                <a:lnTo>
                  <a:pt x="155" y="576"/>
                </a:lnTo>
                <a:lnTo>
                  <a:pt x="154" y="561"/>
                </a:lnTo>
                <a:lnTo>
                  <a:pt x="152" y="544"/>
                </a:lnTo>
                <a:lnTo>
                  <a:pt x="150" y="526"/>
                </a:lnTo>
                <a:lnTo>
                  <a:pt x="150" y="509"/>
                </a:lnTo>
                <a:lnTo>
                  <a:pt x="148" y="490"/>
                </a:lnTo>
                <a:lnTo>
                  <a:pt x="146" y="471"/>
                </a:lnTo>
                <a:lnTo>
                  <a:pt x="146" y="451"/>
                </a:lnTo>
                <a:lnTo>
                  <a:pt x="142" y="430"/>
                </a:lnTo>
                <a:lnTo>
                  <a:pt x="140" y="411"/>
                </a:lnTo>
                <a:lnTo>
                  <a:pt x="136" y="392"/>
                </a:lnTo>
                <a:lnTo>
                  <a:pt x="134" y="375"/>
                </a:lnTo>
                <a:lnTo>
                  <a:pt x="130" y="357"/>
                </a:lnTo>
                <a:lnTo>
                  <a:pt x="129" y="340"/>
                </a:lnTo>
                <a:lnTo>
                  <a:pt x="125" y="323"/>
                </a:lnTo>
                <a:lnTo>
                  <a:pt x="123" y="307"/>
                </a:lnTo>
                <a:lnTo>
                  <a:pt x="119" y="292"/>
                </a:lnTo>
                <a:lnTo>
                  <a:pt x="115" y="277"/>
                </a:lnTo>
                <a:lnTo>
                  <a:pt x="113" y="263"/>
                </a:lnTo>
                <a:lnTo>
                  <a:pt x="109" y="250"/>
                </a:lnTo>
                <a:lnTo>
                  <a:pt x="106" y="236"/>
                </a:lnTo>
                <a:lnTo>
                  <a:pt x="102" y="225"/>
                </a:lnTo>
                <a:lnTo>
                  <a:pt x="100" y="213"/>
                </a:lnTo>
                <a:lnTo>
                  <a:pt x="96" y="202"/>
                </a:lnTo>
                <a:lnTo>
                  <a:pt x="92" y="190"/>
                </a:lnTo>
                <a:lnTo>
                  <a:pt x="88" y="181"/>
                </a:lnTo>
                <a:lnTo>
                  <a:pt x="84" y="171"/>
                </a:lnTo>
                <a:lnTo>
                  <a:pt x="81" y="162"/>
                </a:lnTo>
                <a:lnTo>
                  <a:pt x="77" y="154"/>
                </a:lnTo>
                <a:lnTo>
                  <a:pt x="73" y="144"/>
                </a:lnTo>
                <a:lnTo>
                  <a:pt x="69" y="137"/>
                </a:lnTo>
                <a:lnTo>
                  <a:pt x="65" y="131"/>
                </a:lnTo>
                <a:lnTo>
                  <a:pt x="61" y="125"/>
                </a:lnTo>
                <a:lnTo>
                  <a:pt x="58" y="119"/>
                </a:lnTo>
                <a:lnTo>
                  <a:pt x="54" y="114"/>
                </a:lnTo>
                <a:lnTo>
                  <a:pt x="50" y="108"/>
                </a:lnTo>
                <a:lnTo>
                  <a:pt x="48" y="104"/>
                </a:lnTo>
                <a:lnTo>
                  <a:pt x="44" y="100"/>
                </a:lnTo>
                <a:lnTo>
                  <a:pt x="40" y="96"/>
                </a:lnTo>
                <a:lnTo>
                  <a:pt x="36" y="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5586480" y="3029040"/>
            <a:ext cx="1469880" cy="296640"/>
          </a:xfrm>
          <a:custGeom>
            <a:avLst/>
            <a:gdLst/>
            <a:ahLst/>
            <a:rect l="l" t="t" r="r" b="b"/>
            <a:pathLst>
              <a:path w="1852" h="374">
                <a:moveTo>
                  <a:pt x="1167" y="222"/>
                </a:moveTo>
                <a:lnTo>
                  <a:pt x="1127" y="226"/>
                </a:lnTo>
                <a:lnTo>
                  <a:pt x="1086" y="232"/>
                </a:lnTo>
                <a:lnTo>
                  <a:pt x="1050" y="236"/>
                </a:lnTo>
                <a:lnTo>
                  <a:pt x="1013" y="242"/>
                </a:lnTo>
                <a:lnTo>
                  <a:pt x="977" y="245"/>
                </a:lnTo>
                <a:lnTo>
                  <a:pt x="942" y="251"/>
                </a:lnTo>
                <a:lnTo>
                  <a:pt x="910" y="255"/>
                </a:lnTo>
                <a:lnTo>
                  <a:pt x="879" y="261"/>
                </a:lnTo>
                <a:lnTo>
                  <a:pt x="864" y="263"/>
                </a:lnTo>
                <a:lnTo>
                  <a:pt x="846" y="265"/>
                </a:lnTo>
                <a:lnTo>
                  <a:pt x="827" y="269"/>
                </a:lnTo>
                <a:lnTo>
                  <a:pt x="808" y="270"/>
                </a:lnTo>
                <a:lnTo>
                  <a:pt x="787" y="272"/>
                </a:lnTo>
                <a:lnTo>
                  <a:pt x="764" y="276"/>
                </a:lnTo>
                <a:lnTo>
                  <a:pt x="741" y="278"/>
                </a:lnTo>
                <a:lnTo>
                  <a:pt x="716" y="282"/>
                </a:lnTo>
                <a:lnTo>
                  <a:pt x="691" y="286"/>
                </a:lnTo>
                <a:lnTo>
                  <a:pt x="664" y="290"/>
                </a:lnTo>
                <a:lnTo>
                  <a:pt x="637" y="295"/>
                </a:lnTo>
                <a:lnTo>
                  <a:pt x="608" y="299"/>
                </a:lnTo>
                <a:lnTo>
                  <a:pt x="578" y="305"/>
                </a:lnTo>
                <a:lnTo>
                  <a:pt x="547" y="311"/>
                </a:lnTo>
                <a:lnTo>
                  <a:pt x="514" y="317"/>
                </a:lnTo>
                <a:lnTo>
                  <a:pt x="482" y="324"/>
                </a:lnTo>
                <a:lnTo>
                  <a:pt x="449" y="330"/>
                </a:lnTo>
                <a:lnTo>
                  <a:pt x="418" y="338"/>
                </a:lnTo>
                <a:lnTo>
                  <a:pt x="390" y="343"/>
                </a:lnTo>
                <a:lnTo>
                  <a:pt x="363" y="347"/>
                </a:lnTo>
                <a:lnTo>
                  <a:pt x="336" y="353"/>
                </a:lnTo>
                <a:lnTo>
                  <a:pt x="313" y="357"/>
                </a:lnTo>
                <a:lnTo>
                  <a:pt x="290" y="361"/>
                </a:lnTo>
                <a:lnTo>
                  <a:pt x="280" y="363"/>
                </a:lnTo>
                <a:lnTo>
                  <a:pt x="270" y="365"/>
                </a:lnTo>
                <a:lnTo>
                  <a:pt x="261" y="365"/>
                </a:lnTo>
                <a:lnTo>
                  <a:pt x="251" y="366"/>
                </a:lnTo>
                <a:lnTo>
                  <a:pt x="244" y="368"/>
                </a:lnTo>
                <a:lnTo>
                  <a:pt x="236" y="368"/>
                </a:lnTo>
                <a:lnTo>
                  <a:pt x="228" y="370"/>
                </a:lnTo>
                <a:lnTo>
                  <a:pt x="221" y="370"/>
                </a:lnTo>
                <a:lnTo>
                  <a:pt x="215" y="372"/>
                </a:lnTo>
                <a:lnTo>
                  <a:pt x="209" y="372"/>
                </a:lnTo>
                <a:lnTo>
                  <a:pt x="203" y="372"/>
                </a:lnTo>
                <a:lnTo>
                  <a:pt x="198" y="374"/>
                </a:lnTo>
                <a:lnTo>
                  <a:pt x="194" y="374"/>
                </a:lnTo>
                <a:lnTo>
                  <a:pt x="190" y="374"/>
                </a:lnTo>
                <a:lnTo>
                  <a:pt x="188" y="374"/>
                </a:lnTo>
                <a:lnTo>
                  <a:pt x="184" y="374"/>
                </a:lnTo>
                <a:lnTo>
                  <a:pt x="182" y="374"/>
                </a:lnTo>
                <a:lnTo>
                  <a:pt x="180" y="374"/>
                </a:lnTo>
                <a:lnTo>
                  <a:pt x="171" y="374"/>
                </a:lnTo>
                <a:lnTo>
                  <a:pt x="157" y="372"/>
                </a:lnTo>
                <a:lnTo>
                  <a:pt x="146" y="368"/>
                </a:lnTo>
                <a:lnTo>
                  <a:pt x="130" y="365"/>
                </a:lnTo>
                <a:lnTo>
                  <a:pt x="125" y="361"/>
                </a:lnTo>
                <a:lnTo>
                  <a:pt x="117" y="357"/>
                </a:lnTo>
                <a:lnTo>
                  <a:pt x="109" y="353"/>
                </a:lnTo>
                <a:lnTo>
                  <a:pt x="102" y="347"/>
                </a:lnTo>
                <a:lnTo>
                  <a:pt x="94" y="343"/>
                </a:lnTo>
                <a:lnTo>
                  <a:pt x="86" y="338"/>
                </a:lnTo>
                <a:lnTo>
                  <a:pt x="79" y="330"/>
                </a:lnTo>
                <a:lnTo>
                  <a:pt x="71" y="324"/>
                </a:lnTo>
                <a:lnTo>
                  <a:pt x="61" y="317"/>
                </a:lnTo>
                <a:lnTo>
                  <a:pt x="52" y="311"/>
                </a:lnTo>
                <a:lnTo>
                  <a:pt x="44" y="303"/>
                </a:lnTo>
                <a:lnTo>
                  <a:pt x="36" y="297"/>
                </a:lnTo>
                <a:lnTo>
                  <a:pt x="29" y="292"/>
                </a:lnTo>
                <a:lnTo>
                  <a:pt x="23" y="286"/>
                </a:lnTo>
                <a:lnTo>
                  <a:pt x="17" y="280"/>
                </a:lnTo>
                <a:lnTo>
                  <a:pt x="11" y="276"/>
                </a:lnTo>
                <a:lnTo>
                  <a:pt x="8" y="272"/>
                </a:lnTo>
                <a:lnTo>
                  <a:pt x="4" y="267"/>
                </a:lnTo>
                <a:lnTo>
                  <a:pt x="2" y="263"/>
                </a:lnTo>
                <a:lnTo>
                  <a:pt x="0" y="259"/>
                </a:lnTo>
                <a:lnTo>
                  <a:pt x="0" y="255"/>
                </a:lnTo>
                <a:lnTo>
                  <a:pt x="0" y="253"/>
                </a:lnTo>
                <a:lnTo>
                  <a:pt x="0" y="249"/>
                </a:lnTo>
                <a:lnTo>
                  <a:pt x="4" y="247"/>
                </a:lnTo>
                <a:lnTo>
                  <a:pt x="6" y="245"/>
                </a:lnTo>
                <a:lnTo>
                  <a:pt x="9" y="244"/>
                </a:lnTo>
                <a:lnTo>
                  <a:pt x="15" y="242"/>
                </a:lnTo>
                <a:lnTo>
                  <a:pt x="21" y="240"/>
                </a:lnTo>
                <a:lnTo>
                  <a:pt x="27" y="238"/>
                </a:lnTo>
                <a:lnTo>
                  <a:pt x="36" y="238"/>
                </a:lnTo>
                <a:lnTo>
                  <a:pt x="44" y="236"/>
                </a:lnTo>
                <a:lnTo>
                  <a:pt x="54" y="234"/>
                </a:lnTo>
                <a:lnTo>
                  <a:pt x="65" y="234"/>
                </a:lnTo>
                <a:lnTo>
                  <a:pt x="77" y="232"/>
                </a:lnTo>
                <a:lnTo>
                  <a:pt x="90" y="230"/>
                </a:lnTo>
                <a:lnTo>
                  <a:pt x="104" y="230"/>
                </a:lnTo>
                <a:lnTo>
                  <a:pt x="117" y="228"/>
                </a:lnTo>
                <a:lnTo>
                  <a:pt x="132" y="226"/>
                </a:lnTo>
                <a:lnTo>
                  <a:pt x="150" y="224"/>
                </a:lnTo>
                <a:lnTo>
                  <a:pt x="167" y="222"/>
                </a:lnTo>
                <a:lnTo>
                  <a:pt x="203" y="219"/>
                </a:lnTo>
                <a:lnTo>
                  <a:pt x="240" y="215"/>
                </a:lnTo>
                <a:lnTo>
                  <a:pt x="274" y="211"/>
                </a:lnTo>
                <a:lnTo>
                  <a:pt x="311" y="209"/>
                </a:lnTo>
                <a:lnTo>
                  <a:pt x="347" y="207"/>
                </a:lnTo>
                <a:lnTo>
                  <a:pt x="384" y="203"/>
                </a:lnTo>
                <a:lnTo>
                  <a:pt x="418" y="201"/>
                </a:lnTo>
                <a:lnTo>
                  <a:pt x="455" y="198"/>
                </a:lnTo>
                <a:lnTo>
                  <a:pt x="464" y="196"/>
                </a:lnTo>
                <a:lnTo>
                  <a:pt x="474" y="194"/>
                </a:lnTo>
                <a:lnTo>
                  <a:pt x="484" y="192"/>
                </a:lnTo>
                <a:lnTo>
                  <a:pt x="495" y="192"/>
                </a:lnTo>
                <a:lnTo>
                  <a:pt x="507" y="190"/>
                </a:lnTo>
                <a:lnTo>
                  <a:pt x="518" y="188"/>
                </a:lnTo>
                <a:lnTo>
                  <a:pt x="532" y="186"/>
                </a:lnTo>
                <a:lnTo>
                  <a:pt x="545" y="184"/>
                </a:lnTo>
                <a:lnTo>
                  <a:pt x="558" y="182"/>
                </a:lnTo>
                <a:lnTo>
                  <a:pt x="574" y="180"/>
                </a:lnTo>
                <a:lnTo>
                  <a:pt x="587" y="178"/>
                </a:lnTo>
                <a:lnTo>
                  <a:pt x="604" y="176"/>
                </a:lnTo>
                <a:lnTo>
                  <a:pt x="620" y="174"/>
                </a:lnTo>
                <a:lnTo>
                  <a:pt x="637" y="173"/>
                </a:lnTo>
                <a:lnTo>
                  <a:pt x="654" y="169"/>
                </a:lnTo>
                <a:lnTo>
                  <a:pt x="672" y="167"/>
                </a:lnTo>
                <a:lnTo>
                  <a:pt x="691" y="165"/>
                </a:lnTo>
                <a:lnTo>
                  <a:pt x="710" y="161"/>
                </a:lnTo>
                <a:lnTo>
                  <a:pt x="729" y="159"/>
                </a:lnTo>
                <a:lnTo>
                  <a:pt x="750" y="155"/>
                </a:lnTo>
                <a:lnTo>
                  <a:pt x="771" y="151"/>
                </a:lnTo>
                <a:lnTo>
                  <a:pt x="793" y="150"/>
                </a:lnTo>
                <a:lnTo>
                  <a:pt x="816" y="146"/>
                </a:lnTo>
                <a:lnTo>
                  <a:pt x="839" y="142"/>
                </a:lnTo>
                <a:lnTo>
                  <a:pt x="862" y="138"/>
                </a:lnTo>
                <a:lnTo>
                  <a:pt x="885" y="134"/>
                </a:lnTo>
                <a:lnTo>
                  <a:pt x="910" y="130"/>
                </a:lnTo>
                <a:lnTo>
                  <a:pt x="937" y="126"/>
                </a:lnTo>
                <a:lnTo>
                  <a:pt x="961" y="121"/>
                </a:lnTo>
                <a:lnTo>
                  <a:pt x="988" y="117"/>
                </a:lnTo>
                <a:lnTo>
                  <a:pt x="1015" y="113"/>
                </a:lnTo>
                <a:lnTo>
                  <a:pt x="1044" y="107"/>
                </a:lnTo>
                <a:lnTo>
                  <a:pt x="1071" y="103"/>
                </a:lnTo>
                <a:lnTo>
                  <a:pt x="1096" y="98"/>
                </a:lnTo>
                <a:lnTo>
                  <a:pt x="1121" y="94"/>
                </a:lnTo>
                <a:lnTo>
                  <a:pt x="1146" y="88"/>
                </a:lnTo>
                <a:lnTo>
                  <a:pt x="1171" y="84"/>
                </a:lnTo>
                <a:lnTo>
                  <a:pt x="1194" y="80"/>
                </a:lnTo>
                <a:lnTo>
                  <a:pt x="1217" y="75"/>
                </a:lnTo>
                <a:lnTo>
                  <a:pt x="1238" y="71"/>
                </a:lnTo>
                <a:lnTo>
                  <a:pt x="1259" y="67"/>
                </a:lnTo>
                <a:lnTo>
                  <a:pt x="1280" y="63"/>
                </a:lnTo>
                <a:lnTo>
                  <a:pt x="1301" y="59"/>
                </a:lnTo>
                <a:lnTo>
                  <a:pt x="1320" y="55"/>
                </a:lnTo>
                <a:lnTo>
                  <a:pt x="1340" y="52"/>
                </a:lnTo>
                <a:lnTo>
                  <a:pt x="1357" y="48"/>
                </a:lnTo>
                <a:lnTo>
                  <a:pt x="1376" y="46"/>
                </a:lnTo>
                <a:lnTo>
                  <a:pt x="1393" y="42"/>
                </a:lnTo>
                <a:lnTo>
                  <a:pt x="1409" y="38"/>
                </a:lnTo>
                <a:lnTo>
                  <a:pt x="1424" y="36"/>
                </a:lnTo>
                <a:lnTo>
                  <a:pt x="1439" y="32"/>
                </a:lnTo>
                <a:lnTo>
                  <a:pt x="1455" y="31"/>
                </a:lnTo>
                <a:lnTo>
                  <a:pt x="1468" y="27"/>
                </a:lnTo>
                <a:lnTo>
                  <a:pt x="1482" y="25"/>
                </a:lnTo>
                <a:lnTo>
                  <a:pt x="1493" y="23"/>
                </a:lnTo>
                <a:lnTo>
                  <a:pt x="1505" y="19"/>
                </a:lnTo>
                <a:lnTo>
                  <a:pt x="1516" y="17"/>
                </a:lnTo>
                <a:lnTo>
                  <a:pt x="1528" y="15"/>
                </a:lnTo>
                <a:lnTo>
                  <a:pt x="1537" y="13"/>
                </a:lnTo>
                <a:lnTo>
                  <a:pt x="1547" y="11"/>
                </a:lnTo>
                <a:lnTo>
                  <a:pt x="1555" y="9"/>
                </a:lnTo>
                <a:lnTo>
                  <a:pt x="1562" y="7"/>
                </a:lnTo>
                <a:lnTo>
                  <a:pt x="1570" y="7"/>
                </a:lnTo>
                <a:lnTo>
                  <a:pt x="1578" y="6"/>
                </a:lnTo>
                <a:lnTo>
                  <a:pt x="1589" y="4"/>
                </a:lnTo>
                <a:lnTo>
                  <a:pt x="1603" y="2"/>
                </a:lnTo>
                <a:lnTo>
                  <a:pt x="1614" y="2"/>
                </a:lnTo>
                <a:lnTo>
                  <a:pt x="1626" y="0"/>
                </a:lnTo>
                <a:lnTo>
                  <a:pt x="1639" y="0"/>
                </a:lnTo>
                <a:lnTo>
                  <a:pt x="1651" y="2"/>
                </a:lnTo>
                <a:lnTo>
                  <a:pt x="1662" y="2"/>
                </a:lnTo>
                <a:lnTo>
                  <a:pt x="1674" y="4"/>
                </a:lnTo>
                <a:lnTo>
                  <a:pt x="1697" y="7"/>
                </a:lnTo>
                <a:lnTo>
                  <a:pt x="1720" y="15"/>
                </a:lnTo>
                <a:lnTo>
                  <a:pt x="1745" y="23"/>
                </a:lnTo>
                <a:lnTo>
                  <a:pt x="1770" y="31"/>
                </a:lnTo>
                <a:lnTo>
                  <a:pt x="1779" y="36"/>
                </a:lnTo>
                <a:lnTo>
                  <a:pt x="1789" y="40"/>
                </a:lnTo>
                <a:lnTo>
                  <a:pt x="1796" y="46"/>
                </a:lnTo>
                <a:lnTo>
                  <a:pt x="1804" y="50"/>
                </a:lnTo>
                <a:lnTo>
                  <a:pt x="1812" y="55"/>
                </a:lnTo>
                <a:lnTo>
                  <a:pt x="1819" y="59"/>
                </a:lnTo>
                <a:lnTo>
                  <a:pt x="1825" y="63"/>
                </a:lnTo>
                <a:lnTo>
                  <a:pt x="1831" y="67"/>
                </a:lnTo>
                <a:lnTo>
                  <a:pt x="1835" y="73"/>
                </a:lnTo>
                <a:lnTo>
                  <a:pt x="1841" y="77"/>
                </a:lnTo>
                <a:lnTo>
                  <a:pt x="1843" y="80"/>
                </a:lnTo>
                <a:lnTo>
                  <a:pt x="1846" y="82"/>
                </a:lnTo>
                <a:lnTo>
                  <a:pt x="1848" y="86"/>
                </a:lnTo>
                <a:lnTo>
                  <a:pt x="1850" y="90"/>
                </a:lnTo>
                <a:lnTo>
                  <a:pt x="1850" y="92"/>
                </a:lnTo>
                <a:lnTo>
                  <a:pt x="1852" y="96"/>
                </a:lnTo>
                <a:lnTo>
                  <a:pt x="1850" y="103"/>
                </a:lnTo>
                <a:lnTo>
                  <a:pt x="1848" y="111"/>
                </a:lnTo>
                <a:lnTo>
                  <a:pt x="1844" y="119"/>
                </a:lnTo>
                <a:lnTo>
                  <a:pt x="1839" y="125"/>
                </a:lnTo>
                <a:lnTo>
                  <a:pt x="1835" y="128"/>
                </a:lnTo>
                <a:lnTo>
                  <a:pt x="1831" y="130"/>
                </a:lnTo>
                <a:lnTo>
                  <a:pt x="1827" y="134"/>
                </a:lnTo>
                <a:lnTo>
                  <a:pt x="1821" y="136"/>
                </a:lnTo>
                <a:lnTo>
                  <a:pt x="1818" y="138"/>
                </a:lnTo>
                <a:lnTo>
                  <a:pt x="1810" y="140"/>
                </a:lnTo>
                <a:lnTo>
                  <a:pt x="1804" y="144"/>
                </a:lnTo>
                <a:lnTo>
                  <a:pt x="1796" y="146"/>
                </a:lnTo>
                <a:lnTo>
                  <a:pt x="1789" y="148"/>
                </a:lnTo>
                <a:lnTo>
                  <a:pt x="1779" y="151"/>
                </a:lnTo>
                <a:lnTo>
                  <a:pt x="1770" y="153"/>
                </a:lnTo>
                <a:lnTo>
                  <a:pt x="1758" y="155"/>
                </a:lnTo>
                <a:lnTo>
                  <a:pt x="1747" y="157"/>
                </a:lnTo>
                <a:lnTo>
                  <a:pt x="1733" y="161"/>
                </a:lnTo>
                <a:lnTo>
                  <a:pt x="1720" y="163"/>
                </a:lnTo>
                <a:lnTo>
                  <a:pt x="1704" y="165"/>
                </a:lnTo>
                <a:lnTo>
                  <a:pt x="1689" y="167"/>
                </a:lnTo>
                <a:lnTo>
                  <a:pt x="1672" y="171"/>
                </a:lnTo>
                <a:lnTo>
                  <a:pt x="1654" y="173"/>
                </a:lnTo>
                <a:lnTo>
                  <a:pt x="1635" y="174"/>
                </a:lnTo>
                <a:lnTo>
                  <a:pt x="1614" y="176"/>
                </a:lnTo>
                <a:lnTo>
                  <a:pt x="1595" y="180"/>
                </a:lnTo>
                <a:lnTo>
                  <a:pt x="1572" y="182"/>
                </a:lnTo>
                <a:lnTo>
                  <a:pt x="1551" y="184"/>
                </a:lnTo>
                <a:lnTo>
                  <a:pt x="1499" y="190"/>
                </a:lnTo>
                <a:lnTo>
                  <a:pt x="1449" y="194"/>
                </a:lnTo>
                <a:lnTo>
                  <a:pt x="1401" y="198"/>
                </a:lnTo>
                <a:lnTo>
                  <a:pt x="1353" y="203"/>
                </a:lnTo>
                <a:lnTo>
                  <a:pt x="1305" y="207"/>
                </a:lnTo>
                <a:lnTo>
                  <a:pt x="1259" y="213"/>
                </a:lnTo>
                <a:lnTo>
                  <a:pt x="1167" y="2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任意多边形 8"/>
          <p:cNvSpPr/>
          <p:nvPr/>
        </p:nvSpPr>
        <p:spPr>
          <a:xfrm>
            <a:off x="3559320" y="2568600"/>
            <a:ext cx="1852560" cy="154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3593880" y="228600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10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903320" y="33274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4"/>
          <p:cNvGrpSpPr/>
          <p:nvPr/>
        </p:nvGrpSpPr>
        <p:grpSpPr>
          <a:xfrm>
            <a:off x="2428920" y="2895480"/>
            <a:ext cx="4397400" cy="1373400"/>
            <a:chOff x="2428920" y="2895480"/>
            <a:chExt cx="4397400" cy="1373400"/>
          </a:xfrm>
        </p:grpSpPr>
        <p:sp>
          <p:nvSpPr>
            <p:cNvPr id="116" name="左大括号 2"/>
            <p:cNvSpPr/>
            <p:nvPr/>
          </p:nvSpPr>
          <p:spPr>
            <a:xfrm>
              <a:off x="2428920" y="3138120"/>
              <a:ext cx="347400" cy="928800"/>
            </a:xfrm>
            <a:custGeom>
              <a:avLst/>
              <a:gdLst>
                <a:gd name="textAreaLeft" fmla="*/ 222120 w 347400"/>
                <a:gd name="textAreaRight" fmla="*/ 347400 w 34740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Box 3"/>
            <p:cNvSpPr/>
            <p:nvPr/>
          </p:nvSpPr>
          <p:spPr>
            <a:xfrm>
              <a:off x="2693880" y="2895480"/>
              <a:ext cx="4132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ǜ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绿色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ù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（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绿林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19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1957320" y="1887480"/>
            <a:ext cx="745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初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凡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许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4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1"/>
          <p:cNvSpPr/>
          <p:nvPr/>
        </p:nvSpPr>
        <p:spPr>
          <a:xfrm>
            <a:off x="2611440" y="1893960"/>
            <a:ext cx="664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说，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最初，开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注释，注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总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表示大约接近某个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才，方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29" name="圆角矩形 3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矩形 6"/>
          <p:cNvSpPr/>
          <p:nvPr/>
        </p:nvSpPr>
        <p:spPr>
          <a:xfrm>
            <a:off x="1185840" y="1916280"/>
            <a:ext cx="761220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王荆公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绝句云：“京口瓜洲一水间，钟山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隔数重山。春风又绿江南岸，明月何时照我还？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任意多边形 11"/>
          <p:cNvSpPr/>
          <p:nvPr/>
        </p:nvSpPr>
        <p:spPr>
          <a:xfrm>
            <a:off x="981000" y="3343320"/>
            <a:ext cx="7716960" cy="5047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王荆公：王安石，字介甫，宋代著名的文学家，在他罢相后被封为荆国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1100160" y="3943440"/>
            <a:ext cx="7319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Calibri"/>
              </a:rPr>
              <a:t>王安石有一首七言绝句写道：“京口与瓜洲被一水间隔，眺望钟山好似只隔着几道山岭。春风吹拂，给长江两岸染上了新绿，明月什么时候才能照耀着我返回故乡？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6:06:22Z</dcterms:modified>
  <cp:revision>4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